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0B0-201D-4693-A8EC-539191CF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C05-AF4F-4BE6-99CF-EDF76D6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77-FDA9-4789-8ACA-18E13F18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A6D-3981-4303-AE80-86BEE805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C76-572E-43B7-9CAB-03300E96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635B-77C3-4F92-A5A8-92ADA56D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7773-B848-4AB2-B6C8-2AEB2D1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63F-1C9C-4A16-AA1C-7450755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34D-A1DB-4A6B-A1BB-C1C1EEB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FD7-7B2E-412A-985E-2281A1A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2E7D-1276-4151-A982-9B664D0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7F3-E5B4-4CAF-91B5-BA77DE8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5E6-AEA8-4B7D-AB13-D73E7D55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9A4-DA24-443D-8444-969195FB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BED7-1982-494F-84DF-17D489D2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772-37A5-41ED-A71A-C36440F6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E9B4-0694-4650-BDF6-996F4223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2B1-D19F-496B-9F1F-7FE5D97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445-264B-496B-B2C9-CD56F63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A70-69A6-4424-8135-1CE5063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446-6206-44A3-B2A1-F3A46EB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459-7D1E-4375-B18B-9D3CA1E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EED-CC03-41FA-ADE8-3783366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BDB-3046-44A0-9986-DACABCB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05E-346F-42BB-9728-C155AEDE027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8DD8-E589-46E6-BE78-961C4C78DCF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484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MX" sz="2800" spc="-1" strike="noStrike">
                <a:solidFill>
                  <a:srgbClr val="003399"/>
                </a:solidFill>
                <a:latin typeface="Tahoma"/>
              </a:rPr>
              <a:t>DEUTSCHES SPRACHDIPLOM </a:t>
            </a:r>
            <a:br>
              <a:rPr sz="2800"/>
            </a:br>
            <a:r>
              <a:rPr b="1" lang="es-MX" sz="2800" spc="-1" strike="noStrike">
                <a:solidFill>
                  <a:srgbClr val="003399"/>
                </a:solidFill>
                <a:latin typeface="Tahoma"/>
              </a:rPr>
              <a:t>der Kultusministerkonferenz der Länder</a:t>
            </a:r>
            <a:br>
              <a:rPr sz="2400"/>
            </a:br>
            <a:br>
              <a:rPr sz="2400"/>
            </a:b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4076640"/>
            <a:ext cx="590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Sprachprüfung Deutsch A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Pilotprüfung – 200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062840" y="5118120"/>
            <a:ext cx="1547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Schriftliche Kommunikation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z.B. Bri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ufgabenstellung mit Leitfr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a. 100 Wör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45 Min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in- oder zweisprachiges Wörterbu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133720"/>
            <a:ext cx="180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844640"/>
            <a:ext cx="4321440" cy="5275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Tahoma"/>
              </a:rPr>
              <a:t>Bewertungskriterien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Textaufb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Verfügbarkeit sprachl. 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Gram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Or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Je Kriterium 0-4 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Punktzahl insg.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LV-HV-SK 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m 1. 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In dieser Reihenfol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10 Min Pause zwischen den Prüfungstei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9900"/>
                </a:solidFill>
                <a:latin typeface="Tahoma"/>
              </a:rPr>
              <a:t>MK an einem 2. Tag nicht später als 14 Tage nach der schriftl. Prüf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Mündliche Kommunikation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inzelprüf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 Te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33cc33"/>
                </a:solidFill>
                <a:latin typeface="Tahoma"/>
              </a:rPr>
              <a:t>Teil 1: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Interaktion (Fragenkat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33cc33"/>
                </a:solidFill>
                <a:latin typeface="Tahoma"/>
              </a:rPr>
              <a:t>Teil 2: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Zusammenhängendes Sprechen / Prä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Keine Vorbereitungsze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Dauer der Prüfung: 12-15 Minu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 Deutschleh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de-DE" sz="2400" spc="-1" strike="noStrike" u="sng">
                <a:solidFill>
                  <a:srgbClr val="3333cc"/>
                </a:solidFill>
                <a:uFillTx/>
                <a:latin typeface="Tahoma"/>
              </a:rPr>
              <a:t>Bewertungskriterien M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Interak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Aussprache und Into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Verfügbarkeit sprachl. Mit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Korrektheit </a:t>
            </a: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(Grammati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Je Kriterium 0-4 Pun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Punktzahl insg. 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Mündliche Kommunik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3400"/>
            <a:ext cx="8351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Bewert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Lösungsschlüssel für LV und H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Bewertungskriterien für SK-M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Kein FQ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Korrektur: LV-HV-MK  in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Korrektur: SK            ex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bestanden – nicht best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3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Vorbereitung der SchülerInn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ahoma"/>
              </a:rPr>
              <a:t>Mit Übungsformaten vertraut machen (z.B. Ausfüllen der Antwortbög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ahoma"/>
              </a:rPr>
              <a:t>Arbeitsanweisungen (SK, HV, L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ahoma"/>
              </a:rPr>
              <a:t>Informationen im Text suchen (L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ahoma"/>
              </a:rPr>
              <a:t>Umgang mit Leitfragen (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Tahoma"/>
              </a:rPr>
              <a:t>Themenwahl, Vortrag, Nutzung von Material, Aufbau (Arbeitstechniken wie Mind-Map), Ergebnisse aus Unterrichtsprojekten nut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KMK 2008 - Zf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Die A2 - Prüfung orientiert sich 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Gemeinsamen Europäis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Referenzrahmen - </a:t>
            </a:r>
            <a:r>
              <a:rPr b="0" lang="es-MX" sz="2800" spc="-1" strike="noStrike">
                <a:solidFill>
                  <a:srgbClr val="009900"/>
                </a:solidFill>
                <a:latin typeface="Tahoma"/>
              </a:rPr>
              <a:t>GER</a:t>
            </a: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ntwickelt vom Europar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definiert Sprackkönnen auf verschiedenen Kompetenzstuf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Kannbeschreib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prachdiplomprüfu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066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Bezogen auf den GER decken die Sprachdiplomprüfungen folgende Niveaustufen ab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de-DE" sz="3200" spc="-1" strike="noStrike">
                <a:solidFill>
                  <a:srgbClr val="3333cc"/>
                </a:solidFill>
                <a:latin typeface="Tahoma"/>
              </a:rPr>
              <a:t> -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Elementare Sprachverwendung    A1 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Tahoma"/>
              </a:rPr>
              <a:t>A2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DSD A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0" lang="de-DE" sz="3200" spc="-1" strike="noStrike">
                <a:solidFill>
                  <a:srgbClr val="3333cc"/>
                </a:solidFill>
                <a:latin typeface="Tahoma"/>
              </a:rPr>
              <a:t> -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Selbstständige Sprachverwendung 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Tahoma"/>
              </a:rPr>
              <a:t>B1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B2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DSD B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de-DE" sz="3200" spc="-1" strike="noStrike">
                <a:solidFill>
                  <a:srgbClr val="3333cc"/>
                </a:solidFill>
                <a:latin typeface="Tahoma"/>
              </a:rPr>
              <a:t> -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Kompetente Sprachverwendung   </a:t>
            </a:r>
            <a:r>
              <a:rPr b="1" lang="de-DE" sz="2400" spc="-1" strike="noStrike" u="sng">
                <a:solidFill>
                  <a:srgbClr val="3333cc"/>
                </a:solidFill>
                <a:uFillTx/>
                <a:latin typeface="Tahoma"/>
              </a:rPr>
              <a:t>C1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 C2</a:t>
            </a:r>
            <a:r>
              <a:rPr b="0" lang="de-DE" sz="24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0" lang="de-DE" sz="2400" spc="-1" strike="noStrike">
                <a:solidFill>
                  <a:srgbClr val="009900"/>
                </a:solidFill>
                <a:latin typeface="Tahoma"/>
              </a:rPr>
              <a:t>DSD C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Ab 2009 sind Stufenprüfungen A2/B1 und B2/C1 vorgese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Zielgrupp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A2     Zielgruppe Klassen  6 –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9900"/>
                </a:solidFill>
                <a:latin typeface="Tahoma"/>
              </a:rPr>
              <a:t>B1     Zielgruppe Klassen     8/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9900"/>
                </a:solidFill>
                <a:latin typeface="Tahoma"/>
              </a:rPr>
              <a:t>C1     Zielgruppe Klassen   11/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Profil der A2 - Prüfu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Sprachliche Kenntnisse auf der Niveaustufe A2 des </a:t>
            </a:r>
            <a:r>
              <a:rPr b="1" i="1" lang="de-DE" sz="2400" spc="-1" strike="noStrike">
                <a:solidFill>
                  <a:srgbClr val="3333cc"/>
                </a:solidFill>
                <a:latin typeface="Tahoma"/>
              </a:rPr>
              <a:t>Gemeinsamen Europäischen Referenzrahmen für Sprachen.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Themen und Texte entstammen dem Interessen- und Erfahrungsbereich der Zielgruppe (14-16 Jahre/</a:t>
            </a:r>
            <a:r>
              <a:rPr b="1" lang="de-DE" sz="2400" spc="-1" strike="noStrike">
                <a:solidFill>
                  <a:srgbClr val="00e4a8"/>
                </a:solidFill>
                <a:latin typeface="Tahoma"/>
              </a:rPr>
              <a:t>12-16Jahre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Themenbereiche 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reun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Freizeitgestalt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Wochenen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Sport und Hobb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Schule und Schulall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inkauf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Essen und Trin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Geburtsta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Reisen und Fer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Tiere/Hausti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Wetter und Jahresz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Kleidung -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Beru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Spie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Prüfungsteile -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 Gesamtergebni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Leseverstehen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0 Pun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Hörverstehen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0 Pun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Schriftliche Kommunikation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0 Pun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Mündliche Kommunikation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20 Punk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s-MX" sz="2400" spc="-1" strike="noStrike">
                <a:solidFill>
                  <a:srgbClr val="3333cc"/>
                </a:solidFill>
                <a:latin typeface="Tahoma"/>
              </a:rPr>
              <a:t>Gesamtergebn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30% der möglichen Punktzahl, d.h. 6 Punkte  bei jedem Prüfungstei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und insgesamt 60% der möglichen Gesamtpunktzahl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de-DE" sz="2000" spc="-1" strike="noStrike">
                <a:solidFill>
                  <a:srgbClr val="cc0000"/>
                </a:solidFill>
                <a:latin typeface="Tahoma"/>
              </a:rPr>
              <a:t>d.h. 48 Punkte müssen erreicht werden, um die Prüfung zu bestehen. (Gesamtpunktzahl: 80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Leseverstehen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3 Teile (45 Min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Übertragung der Ergebnisse auf Antwortbogen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10 Min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Kein Wörterbu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Keine Hil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Zuordn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kurze Aussage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Richtig oder Fals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Ganztex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Multiple Choi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Ganztex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Lösungsschlüssel für Lehr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Hörverstehen A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40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3 Teile (ca.20 Mi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CD 1 Ma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Wiederholung auf C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Lesepausen auf C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Beim Hören ankreuz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Keine Unterbrechung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Übertragung der Ergebnisse auf Antwortbogen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Zuordn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kurze Gespräch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Richtig oder Fals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Interview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Muliple Choi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(Berich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33cc"/>
                </a:solidFill>
                <a:latin typeface="Tahoma"/>
              </a:rPr>
              <a:t>Lösungsschlüssel für Lehr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3:10:23Z</dcterms:created>
  <dc:creator>Compaq</dc:creator>
  <dc:description/>
  <dc:language>en-US</dc:language>
  <cp:lastModifiedBy>Seeger</cp:lastModifiedBy>
  <dcterms:modified xsi:type="dcterms:W3CDTF">2009-05-17T17:32:07Z</dcterms:modified>
  <cp:revision>44</cp:revision>
  <dc:subject/>
  <dc:title>DSD A2 – ZdP G</dc:title>
</cp:coreProperties>
</file>