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9EF-2627-40EF-A92F-7BAC8F18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27284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5DB-795D-4273-B201-E3B966BD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5C4-D3C8-4A09-8401-BA72F2B4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3FF1-5DB9-4FB2-829D-2EE69D4E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7861-65EB-4E73-A80F-869CCB18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8BA7-E6B0-46E3-A35D-49EA8143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E351-E925-48AE-B06E-4C5924FE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6DBD-C4E1-42DC-B3FB-26F947D6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1839-550F-4C8F-BFCE-8973C0A0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1EEF-1875-40AB-9523-3D95AE43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89C9-54BF-4BDB-A13C-20E8B30D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BAE-242B-4BEB-B73A-ADBF05DF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AA7A-3F40-475B-938E-E8DA785A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223F-95D0-4E0A-B9AD-11587E0C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27284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4353-10ED-4D78-9383-7867A7AE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8087-3D4A-49F6-9F99-A1039FCB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F801-6F7D-43BA-A45E-FBAEA8F6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6FB-03E5-4090-B9A5-0E9C268B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8C4-94D7-417E-A84B-4AD5BE75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63D-FA78-43FD-99B9-A7B0E21A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1FD-61AA-47D7-A007-D1774611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0D7-17A8-4612-A3EA-AEDE2AE9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B5E-FA4D-4A28-8B47-46A4CC5B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F98-9763-41C9-AAF6-64D52C47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B774-E804-4F34-A30C-779EE9E2FA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C755-661D-473A-B12F-667E2B622E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Hallo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nn Sie über einen Link hierher kommen, wählen Sie bitte im Menu &gt;Durchsuchen&lt; „Ganzer Bildschirm“, um die Projektion im ganzen Bildschirm anzuzei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Arial"/>
              </a:rPr>
              <a:t>Amiti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43000" y="2819160"/>
            <a:ext cx="6781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Un projet franco-allem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8120" y="3886200"/>
          <a:ext cx="2987640" cy="16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886200"/>
                    <a:ext cx="298764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Didaktische Zi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Ausdauer der Schüler in einem Langzeitprojekt förd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Motivation für den fremdsprachlichen Unterricht steig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Fremdsprache in authentischen Gesprächssituationen anwe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Offenheit für anderes Land, andere Kultur, andere Menschen entwickel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3716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505320"/>
            <a:ext cx="350496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. Ja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, lehrwerksgebunde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achstruktu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</a:rPr>
              <a:t>Tandem-Briefe über E-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</a:rPr>
              <a:t>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41148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3657600"/>
            <a:ext cx="350532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. Ja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lexere Sprachstruktu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reiben einer Novell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ingualen 4-er T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324480" y="5029200"/>
          <a:ext cx="136368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029200"/>
                    <a:ext cx="136368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04920" y="4648320"/>
          <a:ext cx="55692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48320"/>
                    <a:ext cx="55692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04920" y="2514600"/>
          <a:ext cx="556920" cy="119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514600"/>
                    <a:ext cx="55692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 für Schülerarbei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ief 6: Kulinarische Gewohnh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andem 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Arial"/>
              </a:rPr>
              <a:t>Anj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Arial"/>
              </a:rPr>
              <a:t>Guilla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ontrolle durch Lehr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m Ende des Projektes wurde der Ordner jedes Schülers durch die Lehrerin 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Arial"/>
              </a:rPr>
              <a:t>gesichte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bewert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 die Grundbedingungen (gute Kommunikation zwischen den Organisatoren, freier Medienzugang, ausreichendes Zeitbudget, finanzielle Grundlagen) erfüllt waren, hat sich der hohe Aufwand zweifelsfrei gelohnt, um bei den Schüler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angfristig Spaß und Motivation für die Fremdsprache zu erzeug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00"/>
                </a:solidFill>
                <a:latin typeface="Arial"/>
                <a:ea typeface="Arial"/>
              </a:rPr>
              <a:t>© 2001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ea typeface="Arial"/>
              </a:rPr>
              <a:t>Gabi Lämmle</a:t>
            </a:r>
            <a:r>
              <a:rPr b="0" lang="de-DE" sz="10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ea typeface="Arial"/>
              </a:rPr>
              <a:t>Faust-Gymnasium</a:t>
            </a:r>
            <a:r>
              <a:rPr b="0" lang="de-DE" sz="1000" spc="-1" strike="noStrike">
                <a:solidFill>
                  <a:srgbClr val="ffff00"/>
                </a:solidFill>
                <a:latin typeface="Arial"/>
                <a:ea typeface="Arial"/>
              </a:rPr>
              <a:t> Staufen letztes update 24.11.200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6477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2:48:33Z</dcterms:created>
  <dc:creator>jourdan</dc:creator>
  <dc:description/>
  <dc:language>en-US</dc:language>
  <cp:lastModifiedBy>Faust-Gymnasium Staufen</cp:lastModifiedBy>
  <dcterms:modified xsi:type="dcterms:W3CDTF">2001-11-28T09:31:01Z</dcterms:modified>
  <cp:revision>47</cp:revision>
  <dc:subject/>
  <dc:title>Amitié</dc:title>
</cp:coreProperties>
</file>