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0614-2A67-4CFB-A9FF-B40DE78D2222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57E4-AD61-45C0-BDDD-6798FFCAE608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04B2-9F07-486F-BB3B-77C73153E0AB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36B6D-C42B-491A-98ED-8F8D4B5F9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53D7-4FD8-414E-93FA-FEF0F93F3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6D6F-9E34-4F45-A257-4EECD30BF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EC85A-CE13-4EF2-8E5B-40DB3DA64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C9540-2C90-4A93-9A2D-F2EBE83D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04ECB-7FC9-4608-906E-0A8E101C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FE349-C065-4CC1-BD35-3F98E746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AEC32-2057-4D97-B048-EA437308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7EEFD-4076-4547-A5B4-969E8CDB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E3C10-D330-42F7-A473-E6181034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E76ED-C755-4021-8467-1CE099AD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3923-4946-43E6-8332-3AEB9F798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8B64D-8823-4DD4-A005-8DAA23C2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DA605-36CE-413B-8C2F-19FC14ED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77ADE-BCB7-4F7F-8051-5838C277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6FBD8-6A02-4E9A-B3A1-12B4A9C4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862EB-4712-4B9F-BD7A-79D60F63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C66F-7741-40BE-AF57-1F1049438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C3CF-E779-4D8C-AE7F-09F4CFE27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9A9E-EFCE-4AC7-86C6-A43C0D020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35CC-9ABF-4AE5-AF9F-976F0F515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2224-8EBB-408D-A5F2-D754B0D3D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5F6E-8DFD-4E4F-AB37-AC90AAB72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99ED-9FA3-426A-AFFA-B59A9F286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14204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16F5-8779-4610-9EAC-3434D2F8DB28}" type="slidenum">
              <a:rPr b="1" lang="es-A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Text Box 8"/>
          <p:cNvSpPr/>
          <p:nvPr/>
        </p:nvSpPr>
        <p:spPr>
          <a:xfrm rot="16200000">
            <a:off x="-3305520" y="3304440"/>
            <a:ext cx="6858000" cy="246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Verdana"/>
              </a:rPr>
              <a:t>Alejandra Schab                                                                                                  28.04.09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9" descr="1139980-STANDARD"/>
          <p:cNvPicPr/>
          <p:nvPr/>
        </p:nvPicPr>
        <p:blipFill>
          <a:blip r:embed="rId2"/>
          <a:stretch/>
        </p:blipFill>
        <p:spPr>
          <a:xfrm>
            <a:off x="0" y="0"/>
            <a:ext cx="176688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7E8B-2297-454D-ABB1-39AB664DE838}" type="slidenum">
              <a:rPr b="0" lang="es-AR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eeger.llvv.org/informat/daten/kohler.htm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1440" y="356760"/>
            <a:ext cx="8872560" cy="3429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s-AR" sz="4400" spc="-1" strike="noStrike">
                <a:solidFill>
                  <a:srgbClr val="000000"/>
                </a:solidFill>
                <a:latin typeface="Verdana"/>
              </a:rPr>
              <a:t>Taller de Informática en la enseñanz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2 Marcador de número de diapositiva"/>
          <p:cNvSpPr/>
          <p:nvPr/>
        </p:nvSpPr>
        <p:spPr>
          <a:xfrm>
            <a:off x="714204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080F-2E97-45BD-8539-98A5BF328B4C}" type="slidenum">
              <a:rPr b="1" lang="es-A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4 CuadroTexto"/>
          <p:cNvSpPr/>
          <p:nvPr/>
        </p:nvSpPr>
        <p:spPr>
          <a:xfrm>
            <a:off x="285840" y="4181400"/>
            <a:ext cx="8501040" cy="2547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Verdana"/>
              </a:rPr>
              <a:t>Dozent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: Michael See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Verdana"/>
              </a:rPr>
              <a:t>Teilnehmerinnen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rolina Koh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Mariane Langra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Alejandra Scha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3 Marcador de número de diapositiva"/>
          <p:cNvSpPr/>
          <p:nvPr/>
        </p:nvSpPr>
        <p:spPr>
          <a:xfrm>
            <a:off x="714204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9AFC-9A00-4A19-98D0-1C3C21CC9DAD}" type="slidenum">
              <a:rPr b="1" lang="es-A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50920" y="1198440"/>
            <a:ext cx="8750160" cy="508824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Verdana"/>
              </a:rPr>
              <a:t>Joachim Massanek</a:t>
            </a:r>
            <a:r>
              <a:rPr b="1" lang="de-DE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00000"/>
                </a:solidFill>
                <a:latin typeface="Verdana"/>
              </a:rPr>
              <a:t>Die wilden Fu</a:t>
            </a:r>
            <a:r>
              <a:rPr b="0" i="1" lang="es-AR" sz="30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i="1" lang="de-DE" sz="3000" spc="-1" strike="noStrike">
                <a:solidFill>
                  <a:srgbClr val="000000"/>
                </a:solidFill>
                <a:latin typeface="Verdana"/>
              </a:rPr>
              <a:t>ballkerle, V</a:t>
            </a:r>
            <a:r>
              <a:rPr b="0" i="1" lang="es-AR" sz="3000" spc="-1" strike="noStrike">
                <a:solidFill>
                  <a:srgbClr val="000000"/>
                </a:solidFill>
                <a:latin typeface="Verdana"/>
              </a:rPr>
              <a:t>anessa die Unerschrockene</a:t>
            </a: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000" spc="-1" strike="noStrike">
                <a:solidFill>
                  <a:srgbClr val="000000"/>
                </a:solidFill>
                <a:latin typeface="Verdana"/>
              </a:rPr>
              <a:t>-Didaktisierung-</a:t>
            </a: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formation zum Buch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Über den Buchinhalt – Zusammenfassung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daptionen beim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olle des Lehrers und des Schülers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fgabeblätter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aufzettel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50560" y="476280"/>
            <a:ext cx="88930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Verdana"/>
              </a:rPr>
              <a:t>Projektarbeit: Kinderliteratur im Da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4 Marcador de número de diapositiva"/>
          <p:cNvSpPr/>
          <p:nvPr/>
        </p:nvSpPr>
        <p:spPr>
          <a:xfrm>
            <a:off x="714204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287D-A008-40E9-9C31-7B8882784918}" type="slidenum">
              <a:rPr b="1" lang="es-A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50920" y="83556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formation zum Bu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791080" y="336708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v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12" descr="vanessa buch"/>
          <p:cNvPicPr/>
          <p:nvPr/>
        </p:nvPicPr>
        <p:blipFill>
          <a:blip r:embed="rId1"/>
          <a:stretch/>
        </p:blipFill>
        <p:spPr>
          <a:xfrm>
            <a:off x="539640" y="1773360"/>
            <a:ext cx="289728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3851280" y="1773000"/>
            <a:ext cx="5292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Verdana"/>
                <a:ea typeface="Calibri"/>
              </a:rPr>
              <a:t>Autor: Joachim Masannek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Verdana"/>
                <a:ea typeface="Calibri"/>
              </a:rPr>
              <a:t>Titel: Die Wilden Fu</a:t>
            </a:r>
            <a:r>
              <a:rPr b="0" i="1" lang="es-AR" sz="2400" spc="-1" strike="noStrike">
                <a:solidFill>
                  <a:srgbClr val="000000"/>
                </a:solidFill>
                <a:latin typeface="Verdana"/>
                <a:ea typeface="Calibri"/>
              </a:rPr>
              <a:t>β</a:t>
            </a:r>
            <a:r>
              <a:rPr b="0" i="1" lang="de-DE" sz="2400" spc="-1" strike="noStrike">
                <a:solidFill>
                  <a:srgbClr val="000000"/>
                </a:solidFill>
                <a:latin typeface="Verdana"/>
                <a:ea typeface="Calibri"/>
              </a:rPr>
              <a:t>ballkerle, Band 3. Vanessa die Unerschrockene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Verdana"/>
                <a:ea typeface="Calibri"/>
              </a:rPr>
              <a:t>Illustrationen: Jan Birck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Verdana"/>
                <a:ea typeface="Calibri"/>
              </a:rPr>
              <a:t>Verlag: dtv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Verdana"/>
                <a:ea typeface="Calibri"/>
              </a:rPr>
              <a:t>4. Auflage Juni 2004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715600" cy="928800"/>
          </a:xfrm>
          <a:prstGeom prst="rect">
            <a:avLst/>
          </a:prstGeom>
          <a:solidFill>
            <a:srgbClr val="00cc66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Verdana"/>
              </a:rPr>
              <a:t>Über den Buchinhalt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8400" y="1928880"/>
            <a:ext cx="8258040" cy="164304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4200" spc="-1" strike="noStrike">
                <a:solidFill>
                  <a:srgbClr val="000000"/>
                </a:solidFill>
                <a:latin typeface="Verdana"/>
              </a:rPr>
              <a:t>Zusammenfassung</a:t>
            </a:r>
            <a:endParaRPr b="0" i="1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400" y="4232160"/>
            <a:ext cx="8258040" cy="16257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4200" spc="-1" strike="noStrike">
                <a:solidFill>
                  <a:srgbClr val="000000"/>
                </a:solidFill>
                <a:latin typeface="Verdana"/>
              </a:rPr>
              <a:t>Vereinfachte Version für einen DaF Unterricht  </a:t>
            </a:r>
            <a:endParaRPr b="0" i="1" lang="en-US" sz="4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714204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5E1F-C21E-4ED9-B436-E7EDA8EDB8A4}" type="slidenum">
              <a:rPr b="1" lang="es-A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2 Marcador de número de diapositiva"/>
          <p:cNvSpPr/>
          <p:nvPr/>
        </p:nvSpPr>
        <p:spPr>
          <a:xfrm>
            <a:off x="714204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193E-C3B7-4379-B281-DE0A994D00AB}" type="slidenum">
              <a:rPr b="1" lang="es-A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027"/>
          <p:cNvSpPr/>
          <p:nvPr/>
        </p:nvSpPr>
        <p:spPr>
          <a:xfrm>
            <a:off x="250920" y="1125360"/>
            <a:ext cx="8381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031"/>
          <p:cNvSpPr/>
          <p:nvPr/>
        </p:nvSpPr>
        <p:spPr>
          <a:xfrm>
            <a:off x="457200" y="1905120"/>
            <a:ext cx="8381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032"/>
          <p:cNvSpPr/>
          <p:nvPr/>
        </p:nvSpPr>
        <p:spPr>
          <a:xfrm rot="16200000">
            <a:off x="2320920" y="-270360"/>
            <a:ext cx="4800600" cy="85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033"/>
          <p:cNvSpPr/>
          <p:nvPr/>
        </p:nvSpPr>
        <p:spPr>
          <a:xfrm>
            <a:off x="441360" y="2013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1034"/>
          <p:cNvSpPr/>
          <p:nvPr/>
        </p:nvSpPr>
        <p:spPr>
          <a:xfrm>
            <a:off x="457200" y="1752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229600" cy="648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Verdana"/>
              </a:rPr>
              <a:t>Adaptionen beim Bu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1036"/>
          <p:cNvSpPr/>
          <p:nvPr/>
        </p:nvSpPr>
        <p:spPr>
          <a:xfrm>
            <a:off x="250920" y="1341360"/>
            <a:ext cx="8569080" cy="43189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Stoffliche Ada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ediale Ada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ormale Ada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prachlich-stilistische Adap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matische Ada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xiologische/ wertende Ada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3285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000000"/>
                </a:solidFill>
                <a:latin typeface="Verdana"/>
              </a:rPr>
              <a:t>2. Aufgabeblätter     </a:t>
            </a:r>
            <a:r>
              <a:rPr b="0" lang="es-AR" sz="2600" spc="-1" strike="noStrike">
                <a:solidFill>
                  <a:srgbClr val="000000"/>
                </a:solidFill>
                <a:latin typeface="Verdana"/>
              </a:rPr>
              <a:t>Aufgabeblatt 1</a:t>
            </a:r>
            <a:r>
              <a:rPr b="0" lang="es-AR" sz="3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br>
              <a:rPr sz="2600"/>
            </a:br>
            <a:r>
              <a:rPr b="0" lang="es-AR" sz="2600" spc="-1" strike="noStrike">
                <a:solidFill>
                  <a:srgbClr val="000000"/>
                </a:solidFill>
                <a:latin typeface="Verdana"/>
              </a:rPr>
              <a:t>                                       Aufgabeblatt 2</a:t>
            </a:r>
            <a:br>
              <a:rPr sz="2600"/>
            </a:br>
            <a:r>
              <a:rPr b="0" lang="es-AR" sz="2600" spc="-1" strike="noStrike">
                <a:solidFill>
                  <a:srgbClr val="000000"/>
                </a:solidFill>
                <a:latin typeface="Verdana"/>
              </a:rPr>
              <a:t>                                       Aufgabeblatt 3</a:t>
            </a:r>
            <a:br>
              <a:rPr sz="2600"/>
            </a:br>
            <a:r>
              <a:rPr b="0" lang="es-AR" sz="34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es-AR" sz="2600" spc="-1" strike="noStrike">
                <a:solidFill>
                  <a:srgbClr val="000000"/>
                </a:solidFill>
                <a:latin typeface="Verdana"/>
              </a:rPr>
              <a:t>Aufgabeblatt 4</a:t>
            </a:r>
            <a:br>
              <a:rPr sz="2600"/>
            </a:br>
            <a:r>
              <a:rPr b="0" lang="es-AR" sz="2600" spc="-1" strike="noStrike">
                <a:solidFill>
                  <a:srgbClr val="000000"/>
                </a:solidFill>
                <a:latin typeface="Verdana"/>
              </a:rPr>
              <a:t>                                       Aufgabeblatt 5</a:t>
            </a:r>
            <a:br>
              <a:rPr sz="2600"/>
            </a:br>
            <a:r>
              <a:rPr b="0" lang="es-AR" sz="2600" spc="-1" strike="noStrike">
                <a:solidFill>
                  <a:srgbClr val="000000"/>
                </a:solidFill>
                <a:latin typeface="Verdana"/>
              </a:rPr>
              <a:t>                                       Aufgabeblatt 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28760" y="2499840"/>
            <a:ext cx="6400800" cy="7146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000000"/>
                </a:solidFill>
                <a:latin typeface="Verdana"/>
              </a:rPr>
              <a:t>1.Unterrichtsentwurf</a:t>
            </a:r>
            <a:endParaRPr b="0" i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714204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C18B-CBCE-4AEE-B226-AA581F6901D1}" type="slidenum">
              <a:rPr b="1" lang="es-A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7 Elipse"/>
          <p:cNvSpPr/>
          <p:nvPr/>
        </p:nvSpPr>
        <p:spPr>
          <a:xfrm>
            <a:off x="928800" y="428760"/>
            <a:ext cx="7358040" cy="1785960"/>
          </a:xfrm>
          <a:prstGeom prst="ellipse">
            <a:avLst/>
          </a:prstGeom>
          <a:solidFill>
            <a:srgbClr val="adadeb">
              <a:alpha val="74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Arbeiten mit “</a:t>
            </a:r>
            <a:r>
              <a:rPr b="0" i="1" lang="es-AR" sz="2400" spc="-1" strike="noStrike">
                <a:solidFill>
                  <a:srgbClr val="000000"/>
                </a:solidFill>
                <a:latin typeface="Verdana"/>
              </a:rPr>
              <a:t>Die Wilden Fussballkerle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” im Unterric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9 Cerrar llave"/>
          <p:cNvSpPr/>
          <p:nvPr/>
        </p:nvSpPr>
        <p:spPr>
          <a:xfrm>
            <a:off x="4357800" y="3357720"/>
            <a:ext cx="428400" cy="335736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3357360"/>
              <a:gd name="textAreaBottom" fmla="*/ 3346200 h 335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5"/>
                  <a:pt x="10800" y="230"/>
                </a:cubicBezTo>
                <a:lnTo>
                  <a:pt x="10800" y="10482"/>
                </a:lnTo>
                <a:cubicBezTo>
                  <a:pt x="10800" y="10597"/>
                  <a:pt x="16200" y="10712"/>
                  <a:pt x="21600" y="10712"/>
                </a:cubicBezTo>
                <a:cubicBezTo>
                  <a:pt x="16200" y="10712"/>
                  <a:pt x="10800" y="10827"/>
                  <a:pt x="10800" y="10942"/>
                </a:cubicBezTo>
                <a:lnTo>
                  <a:pt x="10800" y="21370"/>
                </a:lnTo>
                <a:cubicBezTo>
                  <a:pt x="10800" y="2148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15200" cy="7858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Verdana"/>
              </a:rPr>
              <a:t>Laufzett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2 Marcador de número de diapositiva"/>
          <p:cNvSpPr/>
          <p:nvPr/>
        </p:nvSpPr>
        <p:spPr>
          <a:xfrm>
            <a:off x="714204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78A7-2B48-4949-93EE-3DE4AE3D6F36}" type="slidenum">
              <a:rPr b="1" lang="es-A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00080" y="1357200"/>
          <a:ext cx="7334280" cy="4961160"/>
        </p:xfrm>
        <a:graphic>
          <a:graphicData uri="http://schemas.openxmlformats.org/drawingml/2006/table">
            <a:tbl>
              <a:tblPr/>
              <a:tblGrid>
                <a:gridCol w="6643800"/>
                <a:gridCol w="690480"/>
              </a:tblGrid>
              <a:tr h="82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fgabeblatt 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fgabeblatt 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fgabeblatt 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fgabeblatt 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fgabeblatt 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fgabeblatt 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4 CuadroTexto"/>
          <p:cNvSpPr/>
          <p:nvPr/>
        </p:nvSpPr>
        <p:spPr>
          <a:xfrm>
            <a:off x="285840" y="785880"/>
            <a:ext cx="885816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Welche Aufgabe hast du schon gemacht? Kreuze a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9:11:28Z</dcterms:created>
  <dc:creator>Alejandra</dc:creator>
  <dc:description/>
  <dc:language>en-US</dc:language>
  <cp:lastModifiedBy>Usuario</cp:lastModifiedBy>
  <dcterms:modified xsi:type="dcterms:W3CDTF">2009-08-23T22:01:32Z</dcterms:modified>
  <cp:revision>56</cp:revision>
  <dc:subject/>
  <dc:title>Projektarbeit: Kinderliteratur</dc:title>
</cp:coreProperties>
</file>