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F796-F081-460E-9C94-49707B877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D6EB-3394-4A45-B8F6-2599CC485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2E21-D7EE-450C-8ED1-321CD1DC8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0FEA-7408-4153-A808-E7B564F86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FD0E-9606-4C16-860A-E4BE28A1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CA27-A13A-490F-BBF5-521780551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9846-C555-4399-A626-40C6CFE48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225C-0A59-49E3-B5D9-60F3BAE52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C48A-CC8E-42E7-A37A-A2C647EFF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7063-5383-4359-B6EB-12F63BC9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561B-507C-4AB1-8C6F-3000B26D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5112-011E-41E4-8CFE-6453A318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D9423-F496-4702-B836-BB3E3754E33B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schab_idee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b1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13840" y="1714680"/>
            <a:ext cx="8929800" cy="1752480"/>
          </a:xfrm>
          <a:prstGeom prst="rect">
            <a:avLst/>
          </a:prstGeom>
          <a:solidFill>
            <a:srgbClr val="0fb11e"/>
          </a:solidFill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Aufgabeblatt 6</a:t>
            </a:r>
            <a:r>
              <a:rPr b="1" lang="es-AR" sz="2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alibri"/>
                <a:ea typeface="Calibri"/>
              </a:rPr>
              <a:t>Ordne die Textabschnitte. Schreibe die Buchstaben in die entsprechenden grünen Kasten.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214200" y="0"/>
            <a:ext cx="8929800" cy="1700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Joachim Massanek: </a:t>
            </a:r>
            <a:r>
              <a:rPr b="0" i="1" lang="de-DE" sz="2000" spc="-1" strike="noStrike">
                <a:solidFill>
                  <a:srgbClr val="000000"/>
                </a:solidFill>
                <a:latin typeface="Verdana"/>
              </a:rPr>
              <a:t>Die Wilden Fussballkerle, Vanessa die Unerschrockene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9 Imagen" descr="vanessa buch.jpg"/>
          <p:cNvPicPr/>
          <p:nvPr/>
        </p:nvPicPr>
        <p:blipFill>
          <a:blip r:embed="rId2"/>
          <a:stretch/>
        </p:blipFill>
        <p:spPr>
          <a:xfrm>
            <a:off x="8072280" y="214200"/>
            <a:ext cx="922320" cy="1440000"/>
          </a:xfrm>
          <a:prstGeom prst="rect">
            <a:avLst/>
          </a:prstGeom>
          <a:ln w="0">
            <a:noFill/>
          </a:ln>
        </p:spPr>
      </p:pic>
      <p:sp>
        <p:nvSpPr>
          <p:cNvPr id="44" name="11 Rectángulo"/>
          <p:cNvSpPr/>
          <p:nvPr/>
        </p:nvSpPr>
        <p:spPr>
          <a:xfrm>
            <a:off x="71280" y="2928960"/>
            <a:ext cx="2428920" cy="1785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Calibri"/>
              </a:rPr>
              <a:t>Vanessa hat zwei Träume. Sie will zuerst in einer Jungenmannschaft spielen. Dann möchte sie auch in der Nationalmannschaft spiel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12 Rectángulo"/>
          <p:cNvSpPr/>
          <p:nvPr/>
        </p:nvSpPr>
        <p:spPr>
          <a:xfrm>
            <a:off x="71280" y="4929120"/>
            <a:ext cx="2428920" cy="1785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Calibri"/>
              </a:rPr>
              <a:t>Aber heute bekommt Vanessa eine Überraschung. Sie muss mit ihrem Vater nach München umzie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14 Rectángulo"/>
          <p:cNvSpPr/>
          <p:nvPr/>
        </p:nvSpPr>
        <p:spPr>
          <a:xfrm>
            <a:off x="2500200" y="2928960"/>
            <a:ext cx="428760" cy="178596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18 Rectángulo"/>
          <p:cNvSpPr/>
          <p:nvPr/>
        </p:nvSpPr>
        <p:spPr>
          <a:xfrm>
            <a:off x="2500200" y="4929120"/>
            <a:ext cx="428760" cy="178596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19 Rectángulo"/>
          <p:cNvSpPr/>
          <p:nvPr/>
        </p:nvSpPr>
        <p:spPr>
          <a:xfrm>
            <a:off x="3071880" y="4000680"/>
            <a:ext cx="2428920" cy="1785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Calibri"/>
              </a:rPr>
              <a:t>Der Vater von Vanessa hat mit dem Trainer gesprochen. Vanessa kann am nächsten Tag mitspiele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20 Rectángulo"/>
          <p:cNvSpPr/>
          <p:nvPr/>
        </p:nvSpPr>
        <p:spPr>
          <a:xfrm>
            <a:off x="5500800" y="4000680"/>
            <a:ext cx="428400" cy="178560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21 Rectángulo"/>
          <p:cNvSpPr/>
          <p:nvPr/>
        </p:nvSpPr>
        <p:spPr>
          <a:xfrm>
            <a:off x="6143760" y="2928960"/>
            <a:ext cx="2428920" cy="1785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s-AR" sz="1600" spc="-1" strike="noStrike">
                <a:solidFill>
                  <a:srgbClr val="000000"/>
                </a:solidFill>
                <a:latin typeface="Calibri"/>
              </a:rPr>
              <a:t>Was macht sie hier?”, fragt Leon. “Ein Mädchen in der Mannschaft bringt nur Streit!</a:t>
            </a:r>
            <a:r>
              <a:rPr b="1" lang="es-AR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22 Rectángulo"/>
          <p:cNvSpPr/>
          <p:nvPr/>
        </p:nvSpPr>
        <p:spPr>
          <a:xfrm>
            <a:off x="6143760" y="4929120"/>
            <a:ext cx="2428920" cy="1785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Spielt sie gut, dann kann sie mit den Jungen spielen. Spielt sie schlecht, dann muss Vanessa nach Hause zurü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23 Rectángulo"/>
          <p:cNvSpPr/>
          <p:nvPr/>
        </p:nvSpPr>
        <p:spPr>
          <a:xfrm>
            <a:off x="8572680" y="2928960"/>
            <a:ext cx="428400" cy="178596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4 Rectángulo"/>
          <p:cNvSpPr/>
          <p:nvPr/>
        </p:nvSpPr>
        <p:spPr>
          <a:xfrm>
            <a:off x="8572680" y="4929120"/>
            <a:ext cx="428400" cy="178596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b1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2 Rectángulo"/>
          <p:cNvSpPr/>
          <p:nvPr/>
        </p:nvSpPr>
        <p:spPr>
          <a:xfrm>
            <a:off x="5572080" y="4714920"/>
            <a:ext cx="2428920" cy="1785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O Mann, Fabi!” rief Leon. “Ein Mädchen in der Mannschaft bringt Unglück und Streit!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3 Rectángulo"/>
          <p:cNvSpPr/>
          <p:nvPr/>
        </p:nvSpPr>
        <p:spPr>
          <a:xfrm>
            <a:off x="857160" y="4714920"/>
            <a:ext cx="2428920" cy="1785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Ab heute hatte ich eine neue Adresse: Waldfriedhofstraβe 7 in Münch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4 Rectángulo"/>
          <p:cNvSpPr/>
          <p:nvPr/>
        </p:nvSpPr>
        <p:spPr>
          <a:xfrm>
            <a:off x="3214800" y="2571840"/>
            <a:ext cx="2428920" cy="1785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Ja, ich, Vanessa Butz, ich wollte die erste Frau sein, die in der Männer-nationalmannschaft spielt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5 Rectángulo"/>
          <p:cNvSpPr/>
          <p:nvPr/>
        </p:nvSpPr>
        <p:spPr>
          <a:xfrm>
            <a:off x="5500800" y="428760"/>
            <a:ext cx="2428920" cy="1785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Komm schon. Gebt ihr eine Chance”, sagt Willi. “Und wenn sie nicht gut spielt, schicken wie sie heim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6 Rectángulo"/>
          <p:cNvSpPr/>
          <p:nvPr/>
        </p:nvSpPr>
        <p:spPr>
          <a:xfrm>
            <a:off x="857160" y="428760"/>
            <a:ext cx="2428920" cy="1785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Ja. Ich hab persönlich mit ihrem Trainer telefoniert”, versicherte mein Vater. “Willi heiβt er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7 Rectángulo"/>
          <p:cNvSpPr/>
          <p:nvPr/>
        </p:nvSpPr>
        <p:spPr>
          <a:xfrm>
            <a:off x="7929720" y="428760"/>
            <a:ext cx="428400" cy="1785960"/>
          </a:xfrm>
          <a:prstGeom prst="rect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8 Rectángulo"/>
          <p:cNvSpPr/>
          <p:nvPr/>
        </p:nvSpPr>
        <p:spPr>
          <a:xfrm>
            <a:off x="8001000" y="4714920"/>
            <a:ext cx="428760" cy="1785960"/>
          </a:xfrm>
          <a:prstGeom prst="rect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9 Rectángulo"/>
          <p:cNvSpPr/>
          <p:nvPr/>
        </p:nvSpPr>
        <p:spPr>
          <a:xfrm>
            <a:off x="5643720" y="2571840"/>
            <a:ext cx="428400" cy="1785960"/>
          </a:xfrm>
          <a:prstGeom prst="rect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10 Rectángulo"/>
          <p:cNvSpPr/>
          <p:nvPr/>
        </p:nvSpPr>
        <p:spPr>
          <a:xfrm>
            <a:off x="3286080" y="4714920"/>
            <a:ext cx="428760" cy="1785960"/>
          </a:xfrm>
          <a:prstGeom prst="rect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11 Rectángulo"/>
          <p:cNvSpPr/>
          <p:nvPr/>
        </p:nvSpPr>
        <p:spPr>
          <a:xfrm>
            <a:off x="3286080" y="428760"/>
            <a:ext cx="428760" cy="1785960"/>
          </a:xfrm>
          <a:prstGeom prst="rect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7T13:58:20Z</dcterms:created>
  <dc:creator>Usuario</dc:creator>
  <dc:description/>
  <dc:language>en-US</dc:language>
  <cp:lastModifiedBy>Usuario</cp:lastModifiedBy>
  <dcterms:modified xsi:type="dcterms:W3CDTF">2009-08-23T15:30:15Z</dcterms:modified>
  <cp:revision>12</cp:revision>
  <dc:subject/>
  <dc:title> Ordne die Textabschnitte </dc:title>
</cp:coreProperties>
</file>