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1C64-DAFB-4437-8C2C-61D88E361ADF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C907-6D74-432B-B8CF-E6F1693966AE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1913-7658-4EBE-BBAB-976E64C00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91CBB-34CE-4B74-8D0E-AAB2FE6D7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5221-143E-4231-B77F-FF2CB6C5D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53C7-333F-487E-BB9A-CD1DC8D5CD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431A-6DA5-4700-B2CB-7D87EA651A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60EC-B5E9-4AC1-A7C7-19A70CC02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97342-AEA7-4F31-AA27-1FD0275B3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C6C6-B0BB-46B1-8CE1-20D653A74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667F-5D20-4A06-9EFE-313ED49C9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CA0EB-1F0C-4E56-9391-C4B8E5737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C03E9-985F-4B8B-8410-FB7048731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6F69-8B60-47FE-8A77-52BA43AE7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14204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C010-C162-41C7-8F0D-E973FBF93C50}" type="slidenum">
              <a:rPr b="1" lang="es-A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Text Box 8"/>
          <p:cNvSpPr/>
          <p:nvPr/>
        </p:nvSpPr>
        <p:spPr>
          <a:xfrm rot="16200000">
            <a:off x="-3305520" y="3304440"/>
            <a:ext cx="6858000" cy="246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Verdana"/>
              </a:rPr>
              <a:t>Alejandra Schab                                                                                                  28.04.09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9" descr="1139980-STANDARD"/>
          <p:cNvPicPr/>
          <p:nvPr/>
        </p:nvPicPr>
        <p:blipFill>
          <a:blip r:embed="rId2"/>
          <a:stretch/>
        </p:blipFill>
        <p:spPr>
          <a:xfrm>
            <a:off x="0" y="0"/>
            <a:ext cx="176688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schab_idee.p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4 Marcador de número de diapositiva"/>
          <p:cNvSpPr/>
          <p:nvPr/>
        </p:nvSpPr>
        <p:spPr>
          <a:xfrm>
            <a:off x="714204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6CC1-02B0-48F5-AAA9-73423CE30A2E}" type="slidenum">
              <a:rPr b="1" lang="es-A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893440" cy="1700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Joachim Massanek: 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Die Wilden Fussballkerle, Vanessa die Unerschrockene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3840" y="1699920"/>
            <a:ext cx="8929800" cy="5157720"/>
          </a:xfrm>
          <a:prstGeom prst="rect">
            <a:avLst/>
          </a:prstGeom>
          <a:solidFill>
            <a:srgbClr val="0fb11e">
              <a:alpha val="98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Aufgabeblatt 1</a:t>
            </a:r>
            <a:r>
              <a:rPr b="1" lang="es-AR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600" spc="-1" strike="noStrike">
                <a:solidFill>
                  <a:srgbClr val="000000"/>
                </a:solidFill>
                <a:latin typeface="Verdana"/>
              </a:rPr>
              <a:t>Vannesa ist neu in München und sie will mit den Wilden Fussballkerlen spielen. Die Kerle wollen es nicht.</a:t>
            </a: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600" spc="-1" strike="noStrike">
                <a:solidFill>
                  <a:srgbClr val="000000"/>
                </a:solidFill>
                <a:latin typeface="Verdana"/>
              </a:rPr>
              <a:t>1.1 Du bist Vanessa. Schreibe einen Brief an eine Freundin in Hamburg.</a:t>
            </a: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600" spc="-1" strike="noStrike">
                <a:solidFill>
                  <a:srgbClr val="000000"/>
                </a:solidFill>
                <a:latin typeface="Verdana"/>
              </a:rPr>
              <a:t>1.2. Du bist ein Fussballkerl. Schreibe einen Brief an einen Freund.</a:t>
            </a: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11 Imagen" descr="vanessa buch.jpg"/>
          <p:cNvPicPr/>
          <p:nvPr/>
        </p:nvPicPr>
        <p:blipFill>
          <a:blip r:embed="rId2"/>
          <a:stretch/>
        </p:blipFill>
        <p:spPr>
          <a:xfrm>
            <a:off x="8072280" y="214200"/>
            <a:ext cx="9223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1440" y="499680"/>
            <a:ext cx="88725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……………</a:t>
            </a: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, den ………………2009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2 Marcador de número de diapositiva"/>
          <p:cNvSpPr/>
          <p:nvPr/>
        </p:nvSpPr>
        <p:spPr>
          <a:xfrm>
            <a:off x="714204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F97B-8960-4576-94FA-286570388DA4}" type="slidenum">
              <a:rPr b="1" lang="es-A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3 CuadroTexto"/>
          <p:cNvSpPr/>
          <p:nvPr/>
        </p:nvSpPr>
        <p:spPr>
          <a:xfrm>
            <a:off x="285840" y="92880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Lieb... .............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4 CuadroTexto"/>
          <p:cNvSpPr/>
          <p:nvPr/>
        </p:nvSpPr>
        <p:spPr>
          <a:xfrm>
            <a:off x="285840" y="142884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Liebe Grüβ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                                                  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Dein... ..............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9:11:28Z</dcterms:created>
  <dc:creator>Alejandra</dc:creator>
  <dc:description/>
  <dc:language>en-US</dc:language>
  <cp:lastModifiedBy>Usuario</cp:lastModifiedBy>
  <dcterms:modified xsi:type="dcterms:W3CDTF">2009-08-23T15:25:29Z</dcterms:modified>
  <cp:revision>33</cp:revision>
  <dc:subject/>
  <dc:title>Projektarbeit: Kinderliteratur</dc:title>
</cp:coreProperties>
</file>