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8DEF-2DD8-4C58-AB64-7E3987AE2D99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3CAE-4203-47A9-A6A2-7E8E2AABA101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EEC31-7B2B-4323-9F59-852A568FFD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806BA-B8B0-47A0-BF38-8030F519E0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BDEA0-2D9D-4143-99AC-F223CE5823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76200-83DD-489F-8B8D-3C796B130C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8EA20-85A1-4844-9F8D-E4CF03A3CA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F8C8A-E13B-4F81-BAA8-6AAB275467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2981B-0667-4EE0-B150-4F451E8916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9369E-F78B-477E-8B91-DBE66CFBA8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7170F-5F0C-4C7D-9FDE-6A6DDE1021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34642-568C-4ED4-BFD3-68646B176C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D2772-74E2-4EE5-885F-2D9D6E219A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32C07-3B6A-4B57-A0D9-4726CD90CD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14204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5A23-A714-4744-B6B8-6AF2DEC8075B}" type="slidenum">
              <a:rPr b="1" lang="es-A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Text Box 8"/>
          <p:cNvSpPr/>
          <p:nvPr/>
        </p:nvSpPr>
        <p:spPr>
          <a:xfrm rot="16200000">
            <a:off x="-3305520" y="3304440"/>
            <a:ext cx="6858000" cy="2462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Verdana"/>
              </a:rPr>
              <a:t>Alejandra Schab                                                                                                  28.04.09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9" descr="1139980-STANDARD"/>
          <p:cNvPicPr/>
          <p:nvPr/>
        </p:nvPicPr>
        <p:blipFill>
          <a:blip r:embed="rId2"/>
          <a:stretch/>
        </p:blipFill>
        <p:spPr>
          <a:xfrm>
            <a:off x="0" y="0"/>
            <a:ext cx="176688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schab_idee.ppt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4 Marcador de número de diapositiva"/>
          <p:cNvSpPr/>
          <p:nvPr/>
        </p:nvSpPr>
        <p:spPr>
          <a:xfrm>
            <a:off x="714204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064F-A816-430B-8234-B41116D50263}" type="slidenum">
              <a:rPr b="1" lang="es-A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893440" cy="1700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Joachim Massanek: </a:t>
            </a: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Die Wilden Fussballkerle, Vanessa die Unerschrockene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13840" y="1699920"/>
            <a:ext cx="8929800" cy="5157720"/>
          </a:xfrm>
          <a:prstGeom prst="rect">
            <a:avLst/>
          </a:prstGeom>
          <a:solidFill>
            <a:srgbClr val="0fb11e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Aufgabeblatt 4</a:t>
            </a:r>
            <a:r>
              <a:rPr b="1" lang="es-AR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i="1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Verdana"/>
              </a:rPr>
              <a:t>Ordne die Geschichte</a:t>
            </a:r>
            <a:r>
              <a:rPr b="1" i="1" lang="es-AR" sz="2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i="1" lang="es-AR" sz="2000" spc="-1" strike="noStrike">
                <a:solidFill>
                  <a:srgbClr val="000000"/>
                </a:solidFill>
                <a:latin typeface="Verdana"/>
              </a:rPr>
              <a:t>Nummeriere die Kasten.</a:t>
            </a:r>
            <a:endParaRPr b="0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11 Imagen" descr="vanessa buch.jpg"/>
          <p:cNvPicPr/>
          <p:nvPr/>
        </p:nvPicPr>
        <p:blipFill>
          <a:blip r:embed="rId2"/>
          <a:stretch/>
        </p:blipFill>
        <p:spPr>
          <a:xfrm>
            <a:off x="8072280" y="214200"/>
            <a:ext cx="922320" cy="1440000"/>
          </a:xfrm>
          <a:prstGeom prst="rect">
            <a:avLst/>
          </a:prstGeom>
          <a:ln w="0">
            <a:noFill/>
          </a:ln>
        </p:spPr>
      </p:pic>
      <p:sp>
        <p:nvSpPr>
          <p:cNvPr id="50" name="5 Rectángulo"/>
          <p:cNvSpPr/>
          <p:nvPr/>
        </p:nvSpPr>
        <p:spPr>
          <a:xfrm>
            <a:off x="1000080" y="2714760"/>
            <a:ext cx="771516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Vanessa geht zum Spielplatz. Sie ist super nevö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6 Rectángulo"/>
          <p:cNvSpPr/>
          <p:nvPr/>
        </p:nvSpPr>
        <p:spPr>
          <a:xfrm>
            <a:off x="500040" y="2714760"/>
            <a:ext cx="500040" cy="576000"/>
          </a:xfrm>
          <a:prstGeom prst="rect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7 Rectángulo"/>
          <p:cNvSpPr/>
          <p:nvPr/>
        </p:nvSpPr>
        <p:spPr>
          <a:xfrm>
            <a:off x="1000080" y="3286080"/>
            <a:ext cx="771516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Der Vater von Vanessa spricht mit dem Trainer von den Fussballkerl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8 Rectángulo"/>
          <p:cNvSpPr/>
          <p:nvPr/>
        </p:nvSpPr>
        <p:spPr>
          <a:xfrm>
            <a:off x="1000080" y="3857760"/>
            <a:ext cx="771516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Vanessa zieht nach München u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9 Rectángulo"/>
          <p:cNvSpPr/>
          <p:nvPr/>
        </p:nvSpPr>
        <p:spPr>
          <a:xfrm>
            <a:off x="1000080" y="4429080"/>
            <a:ext cx="771516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Vanessa ist sehr froh, weil sie vielleicht in einer Jungenmannschaft spielen kan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10 Rectángulo"/>
          <p:cNvSpPr/>
          <p:nvPr/>
        </p:nvSpPr>
        <p:spPr>
          <a:xfrm>
            <a:off x="1000080" y="5067360"/>
            <a:ext cx="771516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Vanessa wohnt mit seinem Vater in Hambur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11 Rectángulo"/>
          <p:cNvSpPr/>
          <p:nvPr/>
        </p:nvSpPr>
        <p:spPr>
          <a:xfrm>
            <a:off x="1000080" y="5603760"/>
            <a:ext cx="771516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Elf Jungen sitzen schon im Spielplatz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12 Rectángulo"/>
          <p:cNvSpPr/>
          <p:nvPr/>
        </p:nvSpPr>
        <p:spPr>
          <a:xfrm>
            <a:off x="1000080" y="6143760"/>
            <a:ext cx="771516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Das neue Haus ist schön und sehr gro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13 Rectángulo"/>
          <p:cNvSpPr/>
          <p:nvPr/>
        </p:nvSpPr>
        <p:spPr>
          <a:xfrm>
            <a:off x="500040" y="3286080"/>
            <a:ext cx="500040" cy="576360"/>
          </a:xfrm>
          <a:prstGeom prst="rect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14 Rectángulo"/>
          <p:cNvSpPr/>
          <p:nvPr/>
        </p:nvSpPr>
        <p:spPr>
          <a:xfrm>
            <a:off x="500040" y="3857760"/>
            <a:ext cx="500040" cy="576000"/>
          </a:xfrm>
          <a:prstGeom prst="rect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15 Rectángulo"/>
          <p:cNvSpPr/>
          <p:nvPr/>
        </p:nvSpPr>
        <p:spPr>
          <a:xfrm>
            <a:off x="500040" y="4429080"/>
            <a:ext cx="500040" cy="576360"/>
          </a:xfrm>
          <a:prstGeom prst="rect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16 Rectángulo"/>
          <p:cNvSpPr/>
          <p:nvPr/>
        </p:nvSpPr>
        <p:spPr>
          <a:xfrm>
            <a:off x="500040" y="5032440"/>
            <a:ext cx="500040" cy="539640"/>
          </a:xfrm>
          <a:prstGeom prst="rect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17 Rectángulo"/>
          <p:cNvSpPr/>
          <p:nvPr/>
        </p:nvSpPr>
        <p:spPr>
          <a:xfrm>
            <a:off x="500040" y="5638680"/>
            <a:ext cx="500040" cy="576360"/>
          </a:xfrm>
          <a:prstGeom prst="rect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18 Rectángulo"/>
          <p:cNvSpPr/>
          <p:nvPr/>
        </p:nvSpPr>
        <p:spPr>
          <a:xfrm>
            <a:off x="500040" y="6138720"/>
            <a:ext cx="500040" cy="576360"/>
          </a:xfrm>
          <a:prstGeom prst="rect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9:11:28Z</dcterms:created>
  <dc:creator>Alejandra</dc:creator>
  <dc:description/>
  <dc:language>en-US</dc:language>
  <cp:lastModifiedBy>Usuario</cp:lastModifiedBy>
  <dcterms:modified xsi:type="dcterms:W3CDTF">2009-08-23T15:27:02Z</dcterms:modified>
  <cp:revision>42</cp:revision>
  <dc:subject/>
  <dc:title>Projektarbeit: Kinderliteratur</dc:title>
</cp:coreProperties>
</file>