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0A0-F248-4364-9B6B-6C1AEE20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6C3-64A9-454D-939D-A461938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00F-FFEB-489F-AD43-3182CED0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328-2D25-4A55-B28B-5A86E76B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D85-8FD8-479A-B5E0-19475D9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312-F1E8-480C-9D4C-FBFD6A7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CC8-9159-4D69-B61A-DEA3B4F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3EE-4363-4FCD-AE79-017DF332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EFE-D5A3-4004-A28E-682AC2B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BA6-77D4-46A7-8F08-8931D7AA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FB2-C3C4-4535-BCAF-8874F606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776-C9F6-422B-97D2-9431D92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542-9741-4015-B3F0-A14E6B171958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081960" y="3478680"/>
            <a:ext cx="64533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ctr">
            <a:noAutofit/>
          </a:bodyPr>
          <a:p>
            <a:pPr algn="ctr"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Michael Seeger LV  Didakik II   Mai  2008/20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80028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00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uppen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1960" y="2286000"/>
            <a:ext cx="876312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Teambild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) themenzentrier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zufällig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z. B. Gruppenpuzzle (zerschnittenes B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) vom Leiter eingete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) personenbezo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) Mischfor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8280" y="1066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amfäh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 eine Schlüsselqualifikation der Zukun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67400" y="4322880"/>
            <a:ext cx="3576600" cy="253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FC1-8933-497F-BAF9-AE2381446F7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de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ä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nt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le, häufig nur schwer zu realisierende Id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a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tet das Thema 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7EF-2428-4886-94DE-027A07387582}" type="slidenum">
              <a:t>10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 Philosophen auf den Boden der Tatsachen zurü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 Terminplan im 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ängt auf Re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ht stets die Prä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ziert das T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üpft Kont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BEE-5AE4-4D47-9738-D791B58E3766}" type="slidenum">
              <a:t>11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ührt Vorschläge der anderen praktisch 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reibt, malt, bast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umentiert 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orgt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nt“ selbstlos und ist damit zufr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pfle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6680" y="640080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© 2002-2009  </a:t>
            </a:r>
            <a:r>
              <a:rPr b="0" lang="de-DE" sz="1200" spc="-1" strike="noStrike" u="sng">
                <a:solidFill>
                  <a:srgbClr val="0033cc"/>
                </a:solidFill>
                <a:uFillTx/>
                <a:latin typeface="Arial"/>
              </a:rPr>
              <a:t>Michael Se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024-684D-4D00-BCE6-6C73B1B8BD76}" type="slidenum">
              <a:t>12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uppen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2286000"/>
            <a:ext cx="876312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Teambild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) themenzentriert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) zufällig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z. B. Gruppenpuzzle (zerschnittenes B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) vom Leiter eingete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) personenbezo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) </a:t>
            </a:r>
            <a:r>
              <a:rPr b="1" lang="de-DE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Mischformen (Musch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8280" y="1066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amfäh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 eine Schlüsselqualifikation der Zukun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67400" y="4322880"/>
            <a:ext cx="3576600" cy="253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BC7-949B-4303-AEA8-517BD8A049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pengröß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) 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Zwei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eam = Tandem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598920"/>
            <a:ext cx="449568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r der Stärkere ler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andere ist „Trittbrettfahrer“ oder Publikum für Sta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r Starke wird stä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r Schwache stagn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598920"/>
            <a:ext cx="3733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nell zu organis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ut bei Computerarbeit und anderen Techniken (nat.wiss. Praktik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10159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143000" y="990720"/>
            <a:ext cx="1828800" cy="685800"/>
            <a:chOff x="1143000" y="990720"/>
            <a:chExt cx="1828800" cy="685800"/>
          </a:xfrm>
        </p:grpSpPr>
        <p:sp>
          <p:nvSpPr>
            <p:cNvPr id="59" name=""/>
            <p:cNvSpPr/>
            <p:nvPr/>
          </p:nvSpPr>
          <p:spPr>
            <a:xfrm>
              <a:off x="1143000" y="990720"/>
              <a:ext cx="1828800" cy="685800"/>
            </a:xfrm>
            <a:prstGeom prst="line">
              <a:avLst/>
            </a:prstGeom>
            <a:ln w="92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18600" y="1024560"/>
              <a:ext cx="1752840" cy="617400"/>
            </a:xfrm>
            <a:prstGeom prst="line">
              <a:avLst/>
            </a:prstGeom>
            <a:ln w="92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1A2-08E2-4117-A5C4-17076C7D3022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) 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Vier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eam und größ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3429000"/>
            <a:ext cx="4495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en nehmen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ibungsverluste größer als Lerneffek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6892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liebt, Mensch strebt nach großer Gemein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10159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219320" y="380880"/>
            <a:ext cx="1828800" cy="685800"/>
            <a:chOff x="1219320" y="380880"/>
            <a:chExt cx="1828800" cy="685800"/>
          </a:xfrm>
        </p:grpSpPr>
        <p:sp>
          <p:nvSpPr>
            <p:cNvPr id="67" name=""/>
            <p:cNvSpPr/>
            <p:nvPr/>
          </p:nvSpPr>
          <p:spPr>
            <a:xfrm>
              <a:off x="1219320" y="380880"/>
              <a:ext cx="1828800" cy="685800"/>
            </a:xfrm>
            <a:prstGeom prst="line">
              <a:avLst/>
            </a:prstGeom>
            <a:ln w="92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294920" y="414720"/>
              <a:ext cx="1752840" cy="617400"/>
            </a:xfrm>
            <a:prstGeom prst="line">
              <a:avLst/>
            </a:prstGeom>
            <a:ln w="92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2DF-7977-4A56-BAB8-A03B42B37767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) 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Drei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eam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idea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Größe: </a:t>
            </a:r>
            <a:r>
              <a:rPr b="0" lang="en-US" sz="30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ABC Grup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1022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chselnde Rollen (Sk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k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10159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6095880" y="2209680"/>
            <a:ext cx="1828800" cy="685800"/>
            <a:chOff x="6095880" y="2209680"/>
            <a:chExt cx="1828800" cy="685800"/>
          </a:xfrm>
        </p:grpSpPr>
        <p:sp>
          <p:nvSpPr>
            <p:cNvPr id="74" name=""/>
            <p:cNvSpPr/>
            <p:nvPr/>
          </p:nvSpPr>
          <p:spPr>
            <a:xfrm>
              <a:off x="6095880" y="2209680"/>
              <a:ext cx="1828800" cy="685800"/>
            </a:xfrm>
            <a:prstGeom prst="line">
              <a:avLst/>
            </a:prstGeom>
            <a:ln w="92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171480" y="2243520"/>
              <a:ext cx="1752840" cy="617400"/>
            </a:xfrm>
            <a:prstGeom prst="line">
              <a:avLst/>
            </a:prstGeom>
            <a:ln w="92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952880" y="4191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cc"/>
                </a:solidFill>
                <a:uFillTx/>
                <a:latin typeface="Arial"/>
              </a:rPr>
              <a:t>Si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6EA-C55F-454F-98C4-B25ABDA25B0D}" type="slidenum">
              <a:t>5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ir bilden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Dreier-Team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für heute. Jeder TN erhält dann einen Buchstaben. ABC(D)-Grup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286000"/>
            <a:ext cx="77724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inzip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iwill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auf gute Zusammen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hnliche Inter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Konta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299-ED33-4B2E-AA6A-4054A8C2FD68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erweise sind die Teams dann in sich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homoge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ber untereinander sehr (leistungs)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heteroge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iel ist nicht, von allen die gleiche Leist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ittelmäßigkeit) zu erlang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dern von jedem Team/jedem TN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ihm möglich beste Leis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76600" y="457200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791320"/>
            <a:ext cx="69339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dividualisierung des Lern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2CF-E521-42EA-80E7-1024FE827E84}" type="slidenum">
              <a:t>7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6212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ie Gruppen in diesem Kurs werden von mi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der ABC-Gruppen-Method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üb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die ABC-Gruppen-Methode instruier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Info-Puzzl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Kurz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3A6-EBC6-4B57-8066-5993821DFDAB}" type="slidenum">
              <a:t>8</a:t>
            </a:fld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8d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en in der ABC-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6840" y="11430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m Laufe eines Teamprozesses kristallisieren sich häufig diese Rollen hera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821800">
            <a:off x="609480" y="4495680"/>
            <a:ext cx="2438640" cy="1067040"/>
          </a:xfrm>
          <a:prstGeom prst="flowChartMultidocumen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117800">
            <a:off x="6524640" y="4781520"/>
            <a:ext cx="1905120" cy="685800"/>
          </a:xfrm>
          <a:prstGeom prst="flowChartPunchedCard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52960" y="2666880"/>
            <a:ext cx="2666880" cy="1600200"/>
          </a:xfrm>
          <a:prstGeom prst="flowChartMerg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ilosop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rden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28280" y="3520080"/>
            <a:ext cx="5906880" cy="2588760"/>
            <a:chOff x="1628280" y="3520080"/>
            <a:chExt cx="5906880" cy="2588760"/>
          </a:xfrm>
        </p:grpSpPr>
        <p:cxnSp>
          <p:nvCxnSpPr>
            <p:cNvPr id="89" name=""/>
            <p:cNvCxnSpPr>
              <a:stCxn id="87" idx="1"/>
              <a:endCxn id="85" idx="0"/>
            </p:cNvCxnSpPr>
            <p:nvPr/>
          </p:nvCxnSpPr>
          <p:spPr>
            <a:xfrm flipV="1" rot="10800000">
              <a:off x="1627920" y="3520080"/>
              <a:ext cx="2311920" cy="1042200"/>
            </a:xfrm>
            <a:prstGeom prst="curvedConnector2">
              <a:avLst/>
            </a:prstGeom>
            <a:ln w="38160">
              <a:solidFill>
                <a:srgbClr val="000099"/>
              </a:solidFill>
              <a:miter/>
            </a:ln>
          </p:spPr>
        </p:cxnSp>
        <p:cxnSp>
          <p:nvCxnSpPr>
            <p:cNvPr id="90" name=""/>
            <p:cNvCxnSpPr>
              <a:stCxn id="85" idx="2"/>
              <a:endCxn id="86" idx="2"/>
            </p:cNvCxnSpPr>
            <p:nvPr/>
          </p:nvCxnSpPr>
          <p:spPr>
            <a:xfrm flipH="1" flipV="1" rot="5400000">
              <a:off x="4544280" y="2749320"/>
              <a:ext cx="75600" cy="5466240"/>
            </a:xfrm>
            <a:prstGeom prst="curvedConnector5">
              <a:avLst>
                <a:gd name="adj1" fmla="val -782775"/>
                <a:gd name="adj2" fmla="val 49996"/>
                <a:gd name="adj3" fmla="val -782775"/>
              </a:avLst>
            </a:prstGeom>
            <a:ln w="38160">
              <a:solidFill>
                <a:srgbClr val="000099"/>
              </a:solidFill>
              <a:miter/>
            </a:ln>
          </p:spPr>
        </p:cxnSp>
        <p:cxnSp>
          <p:nvCxnSpPr>
            <p:cNvPr id="91" name=""/>
            <p:cNvCxnSpPr>
              <a:stCxn id="86" idx="0"/>
              <a:endCxn id="87" idx="3"/>
            </p:cNvCxnSpPr>
            <p:nvPr/>
          </p:nvCxnSpPr>
          <p:spPr>
            <a:xfrm flipV="1" rot="16200000">
              <a:off x="5766480" y="3026880"/>
              <a:ext cx="1275480" cy="2262600"/>
            </a:xfrm>
            <a:prstGeom prst="curvedConnector2">
              <a:avLst/>
            </a:prstGeom>
            <a:ln w="38160">
              <a:solidFill>
                <a:srgbClr val="000099"/>
              </a:solidFill>
              <a:miter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EEB-6382-4BD2-A509-EA79885076CB}" type="slidenum">
              <a:t>9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7:53:04Z</dcterms:created>
  <dc:creator>Michael Seeger</dc:creator>
  <dc:description>Druck von Handzetteln problematisch</dc:description>
  <dc:language>en-US</dc:language>
  <cp:lastModifiedBy>seeger</cp:lastModifiedBy>
  <dcterms:modified xsi:type="dcterms:W3CDTF">2009-05-21T00:57:04Z</dcterms:modified>
  <cp:revision>180</cp:revision>
  <dc:subject/>
  <dc:title>Methoden-kompakt</dc:title>
</cp:coreProperties>
</file>