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608-E515-420C-9DA0-5B2B8F6B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0284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7D4-2146-4848-9376-313E6EC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F98-4E82-4077-9CF8-7516749B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896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880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622-78E0-498B-8EF0-80204E4C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893A-078B-4DE5-B28D-030A82A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0AFC-8B36-4BB9-99EF-4AC6180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EEF-62D7-4B97-BA43-613BFC5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1DBE-3FA2-490F-9460-69E4E47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FB0C-A8BD-4101-ADDF-C4ED5C6D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CBEA-F1EE-4B85-B46F-508E65D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442-5086-4561-8B0F-960B5FA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8D3-C7B1-4424-9180-16C501B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2DD-BABF-4F65-81F7-9ACF2F6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F62A-A652-48AC-8B7A-72A4076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40284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205-B53B-436F-B6F5-AF821B8F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2CE8-3461-4CA5-866B-E4A511ED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4028400"/>
            <a:ext cx="255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D14C-7F69-4174-AE93-BC59D419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FB0-BA1B-4C9A-87D0-75C49B2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F84-3CAD-4A09-BDA9-8FDAC769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630-0AAD-4167-84F8-9D255FA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A09-E6BC-48AA-8072-BCB6213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AEF-107D-4CFC-BBDF-8E653D5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40284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C75-38C5-4512-B6FD-6291812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028400"/>
            <a:ext cx="7925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F5F-1C00-4237-BCD1-8C4EB76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AB01-A35A-4955-AA44-6421CE6DA933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633-07CE-4E67-87C1-C00C565E792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firs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1F71-2875-4D95-9094-502C779E8050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9ABB-CBF0-4749-8212-6A5F4DE705B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3314520" y="3314520"/>
            <a:ext cx="6858000" cy="2286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Wesle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amp; Marianne – Erfolgreicher Gruppen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40000"/>
              <a:buFont typeface="Wingdings" charset="2"/>
              <a:buChar char="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ffffff"/>
                </a:solidFill>
                <a:latin typeface="Comic Sans MS"/>
              </a:rPr>
              <a:t>AUSWERTUNG DER GRUPPENERGEBNISS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344124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einem recht komplexen Verfahren haben die Verfasser den Kurs die folgenden Aspekte selbst erarbeiten lassen. Die Idee der TN-Aktivierung ist höchst wertvoll. Alle Kräfte und Konzentration erfordert die (elektronische) Integration der Ergebnisse in der gleichen Sitzung. Es ist aber – wie die nächsten Folien zeigen, gelungen – allerdings in längerer Zeit als den veranschlagten 20 Min. (M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gebnis der Arbeit in der Präsentationsform/Symbolisierungs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n der Taf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uf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s Wandz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s gemeinsamer Hefteint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s audiovisuelle Aufzei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hrerv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ehutsam vor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rre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zu H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02D-D1B8-4F04-8CD2-C9009DB304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64776-7F5D-40EC-A9CF-930E212BC0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9. Metakommunik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same Reflexion der sachlichen Erträge der GA und der Beziehungen zwischen den Ss und zwischen Lehrkraft und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urch Metakommunikation kann man ein positives soziales Klima und bessere Lernleistungen erz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ögliche Formen: Klassenplenum und Krei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dingung ist Offenheit zwischen L. und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4F0-DC04-4608-BE48-FEF958CCED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A9FE4-ADC9-47CC-95F6-080AD495B9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-72396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Vorbedingungen der Auswertu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m Arbeitsauftrag vorherbestim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urch Beobachtung während der 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urch Kontrollrundgang vor Beendigung der 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E39-B7CC-4192-AC26-B0D6B954F5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90FBD-EBEA-4201-9899-1F2456DEC0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2. Symbolisierungsform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e Symbolisierungsformen (Grafiken, Bilder, Vorspiel im Plenum usw.) im Arbeitsauftrag vorbestimmt, aber auch von den Schülern bestim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019-ECE2-4BCE-9D74-E6E7F30E4B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17D63-3988-4D30-8310-51EF67F317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3. Zeitbudg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konomisch mit der Zeit umg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alle Gruppen sollen zu Wort k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Auswertung in der nächsten Unterrichtsstunde (oder gar Schultag) zu Ende b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 Einzelergebnisse der Gruppen sollen gesichert werden (z.B. in Form schriftlicher Noti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die Zeit nicht knapp einpl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85F-9C17-4879-A7AF-8C6C38FE63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C446-F22F-4043-ADE3-1CBCD3B11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Arial"/>
              </a:rPr>
              <a:t>4. Abrufen der 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Abrufen der Gruppen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Gruppen und nicht Einzelschüler zum Vortrag der Ergebnisse 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Gruppenergebnisse müssen in sinnvoller, sachadäquater und schülergerechter Reihenfolge abgeruf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s ist zu vermeiden, dass die erste(n) Gruppe(n) schon alles referieren und die restlichen Gruppen mehr oder weniger leer aus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ei der Reihenfolge der Gruppenberichte sind Abwechslung und Zusammenhang der Einzelreferate in gleicher Weise zu berücksi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2FA-AF07-47EF-BA4E-5ACC088EDF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2C2E4-802E-45D1-9353-D60BA105CF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5. Schülerhandlungen bei der 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reier Vortrag/S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ollen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zenische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iterarische Rollen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uβna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efertigte ästhetische Texte (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edichte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Lehrkra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Konzentration und Aufmerksamkeit si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ziehung zu Fairness u. Toller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ergebnisse für alle Ss intere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chsel der Symbolisierungsf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DEC-6B67-4D87-91C0-347B44D088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DE72C-AF10-4A89-9935-17039F1E19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7. Ernstnehmen der 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52680" y="1676520"/>
            <a:ext cx="2300040" cy="4495680"/>
            <a:chOff x="3352680" y="1676520"/>
            <a:chExt cx="2300040" cy="4495680"/>
          </a:xfrm>
        </p:grpSpPr>
        <p:sp>
          <p:nvSpPr>
            <p:cNvPr id="108" name=""/>
            <p:cNvSpPr/>
            <p:nvPr/>
          </p:nvSpPr>
          <p:spPr>
            <a:xfrm>
              <a:off x="3362760" y="3682440"/>
              <a:ext cx="2259720" cy="247320"/>
            </a:xfrm>
            <a:prstGeom prst="leftRightArrow">
              <a:avLst>
                <a:gd name="adj1" fmla="val 50000"/>
                <a:gd name="adj2" fmla="val 1818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ttel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87960" y="1676520"/>
              <a:ext cx="2259720" cy="246960"/>
            </a:xfrm>
            <a:prstGeom prst="leftRightArrow">
              <a:avLst>
                <a:gd name="adj1" fmla="val 50000"/>
                <a:gd name="adj2" fmla="val 1821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llständig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82920" y="2610720"/>
              <a:ext cx="2259720" cy="263520"/>
            </a:xfrm>
            <a:prstGeom prst="leftRightArrow">
              <a:avLst>
                <a:gd name="adj1" fmla="val 50000"/>
                <a:gd name="adj2" fmla="val 170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93000" y="4803840"/>
              <a:ext cx="2259720" cy="246960"/>
            </a:xfrm>
            <a:prstGeom prst="leftRightArrow">
              <a:avLst>
                <a:gd name="adj1" fmla="val 50000"/>
                <a:gd name="adj2" fmla="val 1821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wenig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5842440"/>
              <a:ext cx="2259720" cy="329760"/>
            </a:xfrm>
            <a:prstGeom prst="leftRightArrow">
              <a:avLst>
                <a:gd name="adj1" fmla="val 50000"/>
                <a:gd name="adj2" fmla="val 1364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r nicht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3040" y="1447560"/>
            <a:ext cx="252360" cy="5181480"/>
            <a:chOff x="4343040" y="1447560"/>
            <a:chExt cx="252360" cy="5181480"/>
          </a:xfrm>
        </p:grpSpPr>
        <p:sp>
          <p:nvSpPr>
            <p:cNvPr id="114" name=""/>
            <p:cNvSpPr/>
            <p:nvPr/>
          </p:nvSpPr>
          <p:spPr>
            <a:xfrm flipH="1" flipV="1">
              <a:off x="4342680" y="1447200"/>
              <a:ext cx="252360" cy="5181480"/>
            </a:xfrm>
            <a:prstGeom prst="can">
              <a:avLst>
                <a:gd name="adj" fmla="val 306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69400" y="1447920"/>
              <a:ext cx="0" cy="5029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971800" y="16765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3623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2971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276720"/>
            <a:ext cx="22860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istungsba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2361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L kann (eventuell zusammen mit den Ss die Arbeiten der Gruppen mit einem Leistungsbarometer bewerten; vielleicht wirkt es wie ein Wettkampf für Gruppen und stachelt ihre Leistung an, wenn sie sehen, wie sie im Gesamtvergleich st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002-53FA-4192-A66D-49F231D0254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9022-B2BF-4840-92D5-D13F97F48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6. Integration der 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fordert  Sach- und Sozialkompetenz der Lehrk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Redundanzen einschrän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derung der Kooperativität (L. u 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weder eingreifen noch korrigiere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chkompetenz: Summe der einzelnen GE und Vernetz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zialkompetenz: keine Rezep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4D4-8007-4BAC-AC6C-71D6C5C47F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32F99-B524-4629-B056-2BB625BFB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8. Sicherung der 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 der Arbeit in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reh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 der Arbeit in der Präsentationsform/Symbolisierung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 der Ta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uf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s Wandz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s gemeinsamer Heftein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s audiovisuelle Auf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4CB-B22A-4F3F-A367-D845B061C9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8D145-5AB5-4CA4-A65B-7FF4EB581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Seeger</cp:lastModifiedBy>
  <dcterms:modified xsi:type="dcterms:W3CDTF">2008-05-19T03:02:1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