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A05B-C08E-4841-9A03-7CDA7135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E503-EA9D-49D4-BD16-A52FB12E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981C-2018-498B-AE67-6334CF0A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EA89-0F8A-4D4F-81D9-E173177C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ECC6-C751-422C-AD7A-44537349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27A1-FBED-4848-A938-4E5ADB78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EE58-5EF9-4F03-BD96-7A391FDB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7319-52AB-4AC5-83D2-71168970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90EA-1FAD-4D64-91AA-417560C1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3225-23AF-44BD-9FF5-EAB7C5C5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B7B3-389C-487A-AC22-C9D4399D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0F0C-A615-497B-89DD-D39B0024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CBEC-6C9D-417A-9F17-96037BB1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9F13-D9C8-4763-AE8C-E3C47949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5BFE-B51C-4514-BAB3-05ED4845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EE35-C7B4-4A51-A314-78785424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612B-23BB-4083-8371-FC51A0C6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AA01-24EE-490A-92F2-AEA94CE8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2A7D-FA31-4344-9587-3E305297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2F3E-010D-4E33-9524-48BEF4AF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04E1-5846-470C-A260-4570DF9C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3A1B-FCB8-4940-B2DA-E63B6D96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6F1E-8B79-404A-B868-74FD123F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3C4F-0B8A-4671-82A6-89A9C9C5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341D-CDDF-47C4-8A33-0F1F4DE4F699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BC92-8C07-429D-AE47-9022573105B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3314520" y="3314520"/>
            <a:ext cx="6858000" cy="22860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Wesle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amp; Marianne – Erfolgreicher Gruppenunter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7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DF39-7581-4FCF-A7ED-45F60E91BC0D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98BC-9B6E-42E6-AE84-741A85ECB61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-3314520" y="3314520"/>
            <a:ext cx="6858000" cy="22860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Wesle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amp; Marianne – Erfolgreicher Gruppenunter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600" spc="-1" strike="noStrike">
                <a:solidFill>
                  <a:srgbClr val="ffffff"/>
                </a:solidFill>
                <a:latin typeface="Comic Sans MS"/>
              </a:rPr>
              <a:t>LEHRERVERHALTE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4200" spc="-1" strike="noStrike">
                <a:solidFill>
                  <a:srgbClr val="ffffff"/>
                </a:solidFill>
                <a:latin typeface="Arial"/>
              </a:rPr>
              <a:t>KONFLIKT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15328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210A-BE50-4B9B-88DF-DDFF9A1C53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6D785-F20B-4166-80C8-0A96C2E531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ff"/>
                </a:solidFill>
                <a:latin typeface="Arial"/>
              </a:rPr>
              <a:t>Typen von Lehrerinterventionen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120" y="1599840"/>
            <a:ext cx="3886200" cy="4419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4495680" cy="396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800600" y="1905120"/>
            <a:ext cx="4343400" cy="396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2D0-22F9-459B-8BA9-B6D0F321448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CC794-AD55-4948-907F-CB0D4225FE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ffffff"/>
                </a:solidFill>
                <a:latin typeface="Arial"/>
              </a:rPr>
              <a:t>Ergebnisse der Untersuchung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ehrkräfte halten sich meist keineswegs zurü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ehrkräfte können ihre Rolle aus dem FU auch im GU nicht abl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angelhafte Arbeitsaufträge oder zu wenig Verständnissicherung führen zu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Desorientierung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bei den Schül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ohes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Kontroll – und Lenkungsbedürfni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der Lehrkräf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6B77-7CD6-44E1-8D8C-6503D171D56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D9629-5DBE-495A-A34F-73C2CEB019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ffffff"/>
                </a:solidFill>
                <a:latin typeface="Arial"/>
              </a:rPr>
              <a:t>Ergebnisse der Untersuchung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ehrkräften geht es oft darum, eigene Vorstellungen über die Aufgabenbearbeitung durchzuset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äufige und zu lange Intervention der Lehrkraft erweist sich ungüns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Niedriger Situationsbezug (geringe Orientierung vor und geringer Aufgabenbezug während der Interven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8F5B-AF4A-4261-9D84-391778CCB16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4F4D2-37C3-453A-9C5A-79085E532A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ffffff"/>
                </a:solidFill>
                <a:latin typeface="Arial"/>
              </a:rPr>
              <a:t>Empfehlungen für die Unterrichtsprax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Bewusstes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Zurückziehen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der Lehrk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Grundkonflikt (Eingreifen und Nicht – Eingreifen) in Richtung auf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Nicht – Eingreifen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entsche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Kooperationsfördernde, verständliche und präzise Arbeitsaufträge und solide Verständnissich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Den Gruppen bewusst machen, dass sie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ohne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die Hilfe der Lehrkraft auskommen so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Während der GA sich selbst still beschäftigen oder die Schüler aus der Ferne beobachten und sich Notizen über Außenseiter und Störenfriede ma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D513-BB6A-4BDC-9FD9-EB601F33868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96973-2B29-4C71-946D-5945A85D9E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ffffff"/>
                </a:solidFill>
                <a:latin typeface="Arial"/>
              </a:rPr>
              <a:t>Empfehlungen für die Unterrichtsprax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Wenn um Hilfe gebeten wird, sollte die Lehrkraft die Gruppen ermutigen, das Problem selbst zu lösen oder nach dem Prinzip der minimalen Hilfe vorge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rst vor Beendingung der GA eventuell herumgehen (Kontrollrundga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Bei der Einleitung der Beendigungsphase wird die Lehrkraft wieder akt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Geschicktes Beenden der GA (nonverbale Zeichen: Lichtsignal, Tischglocke, Spieluhr, Melod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3551-561C-469B-91C8-2408D1DE916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560DF-39AC-4ADD-903B-4A08B03348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eger</cp:lastModifiedBy>
  <dcterms:modified xsi:type="dcterms:W3CDTF">2008-05-14T22:33:21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