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89D43-B2E6-45A0-B525-960C5140C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D1E49-6398-4C62-85BA-1C7EF9E7A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43CF3-2315-4F1B-9822-DC37AECE7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DB525-C705-4597-8F6A-F3DE16BD7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2CBCF-6D91-4336-B3A6-FA70578F2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1FDFC-98B4-4F85-8C10-F4BD60AD0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4598F-4F8A-43FB-954A-82F6153D5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A7A9E-6B47-4D4F-80E8-F50563D77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68E12-3C86-4347-8144-9812FA0E0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83004-A8B4-44EE-984D-84FB30322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FDA5F-A007-4684-A190-10B055CC5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9296C-96B8-4D80-B2FA-DD2A6A905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59FB3-211F-4CC3-B598-8C1B25A38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64919-930C-4913-A540-10741913A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419E3-7025-4B00-814B-0D3D341EC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33FD2-B4AD-4442-836C-FD41474D4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3D41C-DA56-43E6-86BB-071D484A9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01E06-1241-4D7B-A6D2-1CBA6BC2E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C158F-D97F-4ABC-B118-498DE1B7E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91CB5-E9A0-4D74-B40B-ADABCEEB4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0D080-A940-4DAE-99D7-124896768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0D4C7-F7B8-4558-B3C7-569CA0112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33A00-BE04-4C23-AD3A-CDE5A09CD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1EFC2-541A-4328-8DF6-5315B566F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D4499-00B2-4DB2-9AC2-F6B3C7E7EE43}" type="datetime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66C9C-D59D-4D54-9CBD-E5D5A5462824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3314520" y="3314520"/>
            <a:ext cx="6858000" cy="228600"/>
          </a:xfrm>
          <a:prstGeom prst="rect">
            <a:avLst/>
          </a:prstGeom>
          <a:solidFill>
            <a:srgbClr val="cc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00"/>
                </a:solidFill>
                <a:latin typeface="Arial"/>
              </a:rPr>
              <a:t>Wesley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&amp; Marianne – Erfolgreicher Gruppenunterric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>
            <a:hlinkClick r:id="" action="ppaction://hlinkshowjump?jump=firstslide"/>
          </p:cNvPr>
          <p:cNvSpPr/>
          <p:nvPr/>
        </p:nvSpPr>
        <p:spPr>
          <a:xfrm>
            <a:off x="8763120" y="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8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ADBD6-EF5C-41AD-A298-45F4B408358B}" type="datetime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A32C2-EAAC-48F6-98EE-8776329B6974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6200000">
            <a:off x="-3314520" y="3314520"/>
            <a:ext cx="6858000" cy="228600"/>
          </a:xfrm>
          <a:prstGeom prst="rect">
            <a:avLst/>
          </a:prstGeom>
          <a:solidFill>
            <a:srgbClr val="cc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00"/>
                </a:solidFill>
                <a:latin typeface="Arial"/>
              </a:rPr>
              <a:t>Wesley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&amp; Marianne – Erfolgreicher Gruppenunterric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600" spc="-1" strike="noStrike">
                <a:solidFill>
                  <a:srgbClr val="ffffff"/>
                </a:solidFill>
                <a:latin typeface="Comic Sans MS"/>
              </a:rPr>
              <a:t>PRAKTISCHE VORÜBERLEGUNGEN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C7B8D-8DF0-417A-B604-143A5DC1E5B7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9282DC2E-08BE-4070-AE80-07FC1242901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ffffff"/>
                </a:solidFill>
                <a:latin typeface="Arial"/>
              </a:rPr>
              <a:t>Sinnhaftigkeit von GU für Schüler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Erziehung zu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elbstständigke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elbsttätigke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Kooperationsfähigke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olidaritä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Förderung der Kreativitä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D31D5-DEB8-4385-BC8E-4960B0B805A4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AE72DA-A1C7-4B75-B59F-4D488311309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ffffff"/>
                </a:solidFill>
                <a:latin typeface="Arial"/>
              </a:rPr>
              <a:t>Gruppenbildung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freiwillige Gruppenbildung (au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  <a:ea typeface="Arial"/>
              </a:rPr>
              <a:t>er in konkreten Einzelfälle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  <a:ea typeface="Arial"/>
              </a:rPr>
              <a:t>gelegentlich die Sitzordnung durch Losverfahren bestimmen oder diese so variabel gestalten, dass Problemschüler zeitweise auch an Einzel- oder Partnertischen sitzen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F0076-1FCD-4D21-BE43-2C299134D9B8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3FE0C9-B1A2-4882-9DFC-E7DF1BD7C25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ffffff"/>
                </a:solidFill>
                <a:latin typeface="Arial"/>
              </a:rPr>
              <a:t>Zusammensetzung der Gruppe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Qualität der GruppenführerInn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utoritäre GruppenführerInnen </a:t>
            </a:r>
            <a:r>
              <a:rPr b="0" lang="es-ES_tradnl" sz="3200" spc="-1" strike="noStrike">
                <a:solidFill>
                  <a:srgbClr val="cc0000"/>
                </a:solidFill>
                <a:latin typeface="Arial"/>
              </a:rPr>
              <a:t>Ergebnisse: ungünstig, schlec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freundlich-bestimmende GruppenführerInnen                           </a:t>
            </a:r>
            <a:r>
              <a:rPr b="0" lang="es-ES_tradnl" sz="3200" spc="-1" strike="noStrike">
                <a:solidFill>
                  <a:srgbClr val="cc0000"/>
                </a:solidFill>
                <a:latin typeface="Arial"/>
              </a:rPr>
              <a:t>Ergebnisse: besser/gutes Gruppenkli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ozio-emotional ausgerichtete GruppenführerInnen                                                 </a:t>
            </a:r>
            <a:r>
              <a:rPr b="0" lang="es-ES_tradnl" sz="3200" spc="-1" strike="noStrike">
                <a:solidFill>
                  <a:srgbClr val="cc0000"/>
                </a:solidFill>
                <a:latin typeface="Arial"/>
              </a:rPr>
              <a:t>Ergebnisse: die bes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A7351-8C51-4CAA-85F1-2AC4B973D882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E6159B-B3FD-4FBD-9315-D362DDA1856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ffffff"/>
                </a:solidFill>
                <a:latin typeface="Arial"/>
              </a:rPr>
              <a:t>Funktionsrollenverteilung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Rollenverteilung (z.B.Gruppensprecher, Gruppenschreiber usw.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vermeidet unnötige Verteilungskämp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tartphase der GA wird erleichte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n routinemä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  <a:ea typeface="Arial"/>
              </a:rPr>
              <a:t>igem Wechsel die Verteilung der Funktionsrollen in den Gruppen regel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85C81-02FD-4B5E-841A-969B17B85CBF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3EDE62-5051-43B2-B0C7-ADCF539E5D3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ffffff"/>
                </a:solidFill>
                <a:latin typeface="Arial"/>
              </a:rPr>
              <a:t>Trittbrettfahrer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8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Gruppenmitglied, das sich nicht erkennbar an der Bewältigung der gestellten Aufgabe beteiligt und somit ausschlie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Arial"/>
              </a:rPr>
              <a:t>lich passiv von der Arbeit der anderen profitiert (Nachteil des G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8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Arial"/>
              </a:rPr>
              <a:t>Empirische Untersuchungen zeigen, dass auch die schwächsten Schüler und die Au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Arial"/>
              </a:rPr>
              <a:t>enseiter darum bemüht waren, einen (eventuell geringen) Beitrag zur Erledigung des Arbeitsauftrages zu leis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4C65B-2796-478E-B2CA-F86FE3754F9B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49551F-0631-499E-8CC7-FED13E889AC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ffffff"/>
                </a:solidFill>
                <a:latin typeface="Arial"/>
              </a:rPr>
              <a:t>Gesprächsregel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geregelter Sprecherwechs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cc0000"/>
                </a:solidFill>
                <a:latin typeface="Arial"/>
              </a:rPr>
              <a:t>Folge: weniger Engagement an der Bewältigung der Aufga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freier Sprecherwechs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cc0000"/>
                </a:solidFill>
                <a:latin typeface="Arial"/>
              </a:rPr>
              <a:t>Folge: Intensive Erledigung des Arbeitsauftrages; Gruppenmitglieder agieren impulsiver und spontaner, ohne die “Gesprächsregeln” zu beach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1D0EA-3AD7-478A-AD95-7AC2199B4F7C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2AC0B7-B078-4C1B-AD3C-99E0CA31A89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ffffff"/>
                </a:solidFill>
                <a:latin typeface="Arial"/>
              </a:rPr>
              <a:t>Sprache der Schüler während der GA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. benutzen andere Sprachvarietäten bzw. Mutterspr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. verständigen sich viel stärker umgangssprachl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. äu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  <a:ea typeface="Arial"/>
              </a:rPr>
              <a:t>ern sich in ihrer authentischen und spontanen Sprache, ohne Angst vor Sanktion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  <a:ea typeface="Arial"/>
              </a:rPr>
              <a:t>Auch S., die sich vor der Öffentlichkeit kaum äu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  <a:ea typeface="Arial"/>
              </a:rPr>
              <a:t>ern, werden beteilig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26ACD-936A-4D9C-88C7-16A3869C8CBC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BBEF71-FB3C-49DD-B90C-25AF85240F2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ichael Seeger</cp:lastModifiedBy>
  <dcterms:modified xsi:type="dcterms:W3CDTF">2008-05-08T11:43:11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