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5545-7387-47B5-B444-F3C5A12F2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C333-9860-459B-86B7-0FAA350E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AA83-272E-40AD-9FE0-E096FF3B3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6F10-1B07-4505-BBBE-EF7DFBCDA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B84A-474E-4FA4-B9CD-99D0C0B99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0A57A-B35A-4F38-8151-AB4A90E0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8E7C-FAA8-4D99-975D-CA4C272D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806B-9B7C-44C4-A895-E124E785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9102-3427-4424-91EC-B7AF223B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E56A-C891-4D8A-8A4B-DFB1A79C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3251-BE04-402D-B7C8-C073E499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6CAD-7F36-4845-9FDE-51445DC7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8595-7279-4B60-AC4F-4A344392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C0B0-E5CA-4EB3-B0F1-7882BD70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9072A-6F3D-4300-8C47-39ED7AF6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EE48-6850-4F7B-BBB2-4526145C7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23CF-2E69-4569-97FF-E6E843F80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A615-D965-43B5-87A3-3096284D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CC98-7DB8-40A6-B0DB-12C025DA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9392-3610-4BAD-B8F4-47BA0B89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304B-3FC7-4A79-922C-EDC9B0F8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B45B-DB41-434D-95CF-0F1E8E36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4332-B786-4A6D-BBDD-4422019C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4315-B61D-4738-9486-DCE67146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A872-50E7-478D-AC24-CF50921645B9}" type="datetime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4C3B-4B66-45E0-BE1B-2BD5ACF6AB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3314520" y="3314520"/>
            <a:ext cx="6858000" cy="22860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Wesle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&amp; Marianne – Erfolgreicher Gruppenunterr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7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0BA6-2498-458F-97F6-C83FBE318D73}" type="datetime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C365-593E-42BF-967D-4B3304B157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-3314520" y="3314520"/>
            <a:ext cx="6858000" cy="22860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Wesle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amp; Marianne – Erfolgreicher Gruppenunterr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200" spc="-1" strike="noStrike">
                <a:solidFill>
                  <a:srgbClr val="ffffff"/>
                </a:solidFill>
                <a:latin typeface="Comic Sans MS"/>
              </a:rPr>
              <a:t>ANDERE FORMEN DES LERNENS IN GRUPPE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E160-6B00-4445-9AAD-7DF5751A58C7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3655DF7-CE0C-48DD-B659-A271BE8BBC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7460-B076-4F71-A9E9-150728678FF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72133B-05A7-4B10-8DC4-D33CA9E995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28F7-7F71-4817-8FC1-E5FDFD8BC9F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CF4DD7-ABBD-4302-86AC-5AAF996B3D9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05-07T21:41:2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