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E6C6-EA7F-4AC3-97C7-07B4F8F4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3676-8FC1-4AED-8176-8A401E5F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1E5F-1293-4081-85D4-675D01A4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C858-B5A0-4B8C-BEC7-9920340C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706C-1D70-465B-9EBF-C7461D76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029D-2D31-4C38-9E9E-2840B261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BE62-AD87-43A1-8C66-F3FAA51C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95D1-092B-425C-A4CC-DD44C010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31D9-F1C7-4297-A24D-FC7978BB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65BD-FC31-4B47-A54B-09E52F59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9379-0737-432E-A3B8-69388307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E60F-9F67-46F4-856E-1DE146DA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364A-2D10-4912-90EE-F2252751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CA7C-2420-49F6-A36A-63B6922A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6744-3ABD-4529-8B1C-E15FA159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3DBD-D071-40B3-8C08-5814BD0C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E937-5D67-49DC-BC39-9AD19567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3AB5-7484-437D-A681-782B414B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EE4F-57DC-48A1-9216-05154317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1C28-BA26-45CE-BFDC-143CE54A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7B9F-9D6E-4E01-A56A-87443B24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7073-94A9-4084-8CC6-63303180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5044-D4FD-4CFB-90C8-676B8A61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4204-E51D-440D-9982-9730EC2F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1696-3576-4245-B95B-3C3F21A1CC65}" type="datetime">
              <a:rPr b="0" lang="de-DE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0821-068B-4400-BFE5-3511DBAE7C2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3314520" y="3314520"/>
            <a:ext cx="6858000" cy="22860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Wesle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amp; Marianne – Erfolgreicher Gruppenunterr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7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7C77-4439-417A-BC46-DDFB47255BCC}" type="datetime">
              <a:rPr b="0" lang="de-DE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2126-BE54-47D8-BC58-E3F90AF2801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-3314520" y="3314520"/>
            <a:ext cx="6858000" cy="22860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Wesle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amp; Marianne – Erfolgreicher Gruppenunterr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andere%20formen.ppt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_tradnl" sz="4400" spc="-1" strike="noStrike">
                <a:solidFill>
                  <a:srgbClr val="ffffff"/>
                </a:solidFill>
                <a:latin typeface="Comic Sans MS"/>
              </a:rPr>
              <a:t>ERFOLGREICHER</a:t>
            </a:r>
            <a:br>
              <a:rPr sz="4400"/>
            </a:br>
            <a:r>
              <a:rPr b="1" lang="es-ES_tradnl" sz="4400" spc="-1" strike="noStrike">
                <a:solidFill>
                  <a:srgbClr val="ffffff"/>
                </a:solidFill>
                <a:latin typeface="Comic Sans MS"/>
              </a:rPr>
              <a:t>      GRUPPENUNTERRICH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124080" y="54860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0000"/>
                </a:solidFill>
                <a:latin typeface="Comic Sans MS"/>
              </a:rPr>
              <a:t>   </a:t>
            </a:r>
            <a:r>
              <a:rPr b="1" lang="es-ES_tradnl" sz="3200" spc="-1" strike="noStrike">
                <a:solidFill>
                  <a:srgbClr val="cc0000"/>
                </a:solidFill>
                <a:latin typeface="Comic Sans MS"/>
              </a:rPr>
              <a:t>WESLEY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&amp; MARIA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25780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F65E-414F-498B-82FE-101456E2AED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AAD9D1-8E8F-4601-94EE-C03F926BAA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095880" y="13716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2"/>
          </p:cNvPr>
          <p:cNvSpPr/>
          <p:nvPr/>
        </p:nvSpPr>
        <p:spPr>
          <a:xfrm>
            <a:off x="457200" y="380880"/>
            <a:ext cx="1600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3352680"/>
            <a:ext cx="1752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5486400"/>
            <a:ext cx="236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5486400"/>
            <a:ext cx="1752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3657600"/>
            <a:ext cx="1523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04920"/>
            <a:ext cx="16765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13716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1295280"/>
            <a:ext cx="1143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1219320"/>
            <a:ext cx="1447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3200400"/>
            <a:ext cx="1981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5410080"/>
            <a:ext cx="2590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581280"/>
            <a:ext cx="198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5257800"/>
            <a:ext cx="2133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4724280"/>
            <a:ext cx="2819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457200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C2E2-1CB6-42C2-AB3B-732C17D598A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2BDC5-CEEF-4E60-AFAC-E0E6135ED4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8:20:03Z</dcterms:created>
  <dc:creator>User</dc:creator>
  <dc:description/>
  <dc:language>en-US</dc:language>
  <cp:lastModifiedBy>Michael Seeger</cp:lastModifiedBy>
  <dcterms:modified xsi:type="dcterms:W3CDTF">2008-05-15T11:04:14Z</dcterms:modified>
  <cp:revision>23</cp:revision>
  <dc:subject/>
  <dc:title>GRUPPENUNTERRICHT</dc:title>
</cp:coreProperties>
</file>