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D23-75D5-4D03-BBFA-2C24327C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D4A-276C-4568-9E67-D22CF77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D3B-2F89-4FC9-93BB-7A4E1EA3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91F-66C9-4625-B97B-253AFC3F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948-A25F-4BEF-B338-4E4CA998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659E-9D68-4921-B97F-1B6F7318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E5D3-CA0E-4DAD-982A-AD616A1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1495-32FE-4C20-9783-08CF83CB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E6CC-AF76-42D6-90E8-A57A787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541D-141B-4C7C-A113-FD020AC6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469E-B662-4ACA-9188-722F493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8D8-361D-4758-987E-9602D9DF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F035-D43E-4992-9750-B3DE9C2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0746-F3E8-4C6E-8115-C456929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47A-E6AC-4212-84A5-E4F90443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BCA-94C4-4F83-8DC0-9503E27C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BEA-C883-4517-A6B9-D1F9C041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C00-25CC-46AB-BAD0-A64862B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DA1-0680-42B0-918E-2B4B5EE6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75B-6002-48DD-909F-DB5E22B7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B75-8991-4D33-B8D6-428F5DFD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0AB-E875-4F9A-BC62-6548788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00-DC9B-4340-8EE1-E08CCC9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573-7756-4B1B-803B-7E470257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DFA-66D9-4D12-BB2E-7D3283C0DBC8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6D1-F5B6-404A-B35D-069D6DABB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" action="ppaction://hlinkshowjump?jump=firs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743-7751-4B10-B083-BB840745AE63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7566-C8E3-4284-9CFD-4FE9E2E64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40000"/>
              <a:buFont typeface="Wingdings" charset="2"/>
              <a:buChar char="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ffffff"/>
                </a:solidFill>
                <a:latin typeface="Comic Sans MS"/>
              </a:rPr>
              <a:t>ARBEITSAUFTRÄG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6. Verständnissicherung des A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llen Sie den AA nicht n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ündli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sondern zugleich 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riftlich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orm (Folie, Arbeitsblatt, Tafelanschrift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ssen Sie den AA von den Ss mit eigenen Wort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ederho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 Sie nach, ob                                                    alles verstanden wur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antworten Sie Fragen                                    von Ss, erklären Sie                                   Unverstanden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235584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E82-26F6-483A-8756-A06EF440F8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C057D-18E4-4514-BF59-1D681AC39E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prüfen Sie durch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lickkontakt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ob der AA begriffen wurde und achten Sie dabei auf nonverbale Anzeichen des Nichtverstehens (Stirnrunzeln, fragendes Umherschauen, Kopfschütteln usw.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terbinden Sie konsequent vorlaufende GA, bevor die Verständnissicherung abgeschlossen is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BB7-0933-4263-98C6-9828E30F13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9B336-A18B-41E0-8606-E5001025D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1. Grundlegende Überlegung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t die Klasse bereit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fahr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mit Gruppenunterricht, oder führen Sie diese Unterrichtsform erst 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wel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richtlichen Rah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ollen Sie den GU einbetten? Auf welcher Artikulationsstufe des Unterrichts (z.B. Hinführung, Erarbeitung, Übung, Anwendung) wollen Sie GA einsetz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herrschen die Ss die zur Bearbeitung der Aufgabe nötig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rbeitstechnik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llen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ist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Gruppen bewertet werden? Welche Kriterien spielen dabei eine Ro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5FD-0D27-4DCE-B6F7-54B0529208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BE6FF-0F19-43D7-8604-65C86BD8D0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2. Vollständige inhaltliche Durchdringung des A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jeder GA geht es um bestimm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rnziele und Lerninhal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müssen bestimmte Handlungen ausgeführt werden, sollen Ergebnisse erzielt werden. Achten Sie bei der Stellung des Arbeitsauftrags darau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ählen Sie Lerninhalte aus, die de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istungsstan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r S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ngemessen s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llen Sie die notwendig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rbeitsmateriali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re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denken Sie vorab, auf welch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wierigkei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Ss bei der Bearbeitung des AA stoβen sollen oder könn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FD4-8E64-451C-8E6E-EB248CDF29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4CD4E-AF91-4AFF-8EF5-C1B077E07B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legen Sie sich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ilfsimpuls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die Sie den Ss notfalls geben kön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besonders schnelle Gruppen sollte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satzaufg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gestellt werden. Oder andere Regelungen für schnelle Gruppen: Die Ss dürfen sich nach Erledigung des AA ruhig in der Gruppe über ein anderes Thema unterhalten oder still beschäft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47D-9B95-457F-8906-A5D8EDBC95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7F469-807F-4B4A-8C41-6E40FA398D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3. Kooperationszwang des A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stalten Sie die Art der Aufgabe so, dass notwendigerweise oder zumindest zweckmäβigerweise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sammenarb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n der Gruppe erforde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Aufgabe muss so beschaffen sein, dass sie in G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nvoll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ls in irgendeiner anderen Sozialform (wie Einzelarbeit, Partnerarbeit, Frontalunterricht) zu erledigen 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 es sachlich sinnvoll ist, geben Sie die Anweisungen z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ig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n der Grupp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23A-44F8-47E3-8E9A-97A729C90E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AF4E9-126B-4647-8CBE-EEA0BEE4CC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4a. Präzision des A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lären Sie die auszuführenden Handlungen Ihren Erwartungen entspreche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xa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llen Sie sicher, dass den Ss klar ist, was sie tun und wie, d.h. in welche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Quantität und Qualitä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Handlungen ausgeführt werden soll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ben Sie gegebenenfalls präzise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henfol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auszuführenden Handlungen 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ennen Sie eindeutig, welch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rbeitsmitt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Medien und Hilfsmittel) verwendet werden soll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C0D-2BEC-4C53-B22D-B983E3393D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AD29E-CE9A-4843-809D-04E3E56C96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ben Sie klare Anweisungen, wie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gebniss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n der Auswertungsphase dargestellt werden sollen, d.h. wie ausführlich und in welcher medialen Symbolisierungsform (z.B. auf Overheadprojektorfolie, als Wandzeitung, als Rollenspiel oder Collage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ündigen Sie an, wie lange die GA dauern so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ipp vor allem für Anfänger in GU-praxis: Formulieren und fixieren Sie den AA schriftlich schon in der häusli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reit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854-ADCA-409B-A8AD-13B75A1EE6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05891-4809-40C7-985E-64446C40A8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4b. Offenheitsgrad des A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nn GU als Unterrichtsform neu eingeführt wird, sind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chlossene A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innvoll, weil sie genau festlegen, was die Ss zu tun h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 Laufe der Zeit sollten aber die Entscheidungs- und Handlungsfreiräume der S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rweiter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wer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96F-3EA7-449D-B0E8-C37A08B341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F6FA-D4C0-4016-BE3A-3BE5B917C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5. Verständlichkeit des A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en S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e, kurze Sätz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den Kindern geläufige Wör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lären Sie eventuell wichtig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chbegriffe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der Schlüsselwör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ulieren Sie den A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kret und anschauli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iedern Sie den A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nvoll und übersichtli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ben Sie Wesentliches deutlich hervor (z.B.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ttdruc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oder mündliche Zusatzerklärungen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1E0-0396-4EFB-A2FF-EBC8EEBC8A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4A1A8-A53D-4873-85C4-BF04C637FA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5-13T23:16:0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