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4628C48-08A8-4A15-AB93-424C87E794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6ABDA1-4E14-4D83-A7DB-E9969A9E1B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B92ABFC-0127-4542-8757-886A979A20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4E7-7131-4804-B357-73B111CF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834-DC27-4775-BD04-B3B001B8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089-A27A-4F66-ACB6-E47A3E96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620-E4BA-49D4-8E88-1D8DE30E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846-FF71-4298-8873-7E833A7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05F-F45E-4266-89E6-075156D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9DB-54DB-4A83-BDD0-31BEA3A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A00-F23B-4094-B3B7-3712F4AD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4CB-6077-49D2-BD2B-907DD35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5B1-C314-474E-9770-8C1D997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073-38AC-49CF-A91A-634F2BE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61C-A409-4D2C-871E-5F7963B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081960" y="3478680"/>
            <a:ext cx="645336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ctr">
            <a:noAutofit/>
          </a:bodyPr>
          <a:p>
            <a:pPr algn="ctr"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Michael Seeger LV  Methodik III  20.11. 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BED9-28AE-46E9-ACFB-BE2CC8E9D6EC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7301"/>
                </a:moveTo>
                <a:lnTo>
                  <a:pt x="12167" y="7301"/>
                </a:lnTo>
                <a:lnTo>
                  <a:pt x="12550" y="7667"/>
                </a:lnTo>
                <a:lnTo>
                  <a:pt x="21758" y="7667"/>
                </a:lnTo>
                <a:lnTo>
                  <a:pt x="22315" y="8224"/>
                </a:lnTo>
                <a:lnTo>
                  <a:pt x="22315" y="8772"/>
                </a:lnTo>
                <a:lnTo>
                  <a:pt x="24160" y="8772"/>
                </a:lnTo>
                <a:lnTo>
                  <a:pt x="24526" y="8224"/>
                </a:lnTo>
                <a:lnTo>
                  <a:pt x="25266" y="8224"/>
                </a:lnTo>
                <a:lnTo>
                  <a:pt x="25266" y="13376"/>
                </a:lnTo>
                <a:lnTo>
                  <a:pt x="24526" y="13376"/>
                </a:lnTo>
                <a:lnTo>
                  <a:pt x="24160" y="12828"/>
                </a:lnTo>
                <a:lnTo>
                  <a:pt x="22315" y="12828"/>
                </a:lnTo>
                <a:lnTo>
                  <a:pt x="22315" y="14107"/>
                </a:lnTo>
                <a:lnTo>
                  <a:pt x="12732" y="14107"/>
                </a:lnTo>
                <a:lnTo>
                  <a:pt x="12732" y="9877"/>
                </a:lnTo>
                <a:lnTo>
                  <a:pt x="12550" y="9877"/>
                </a:lnTo>
                <a:lnTo>
                  <a:pt x="12167" y="10243"/>
                </a:lnTo>
                <a:lnTo>
                  <a:pt x="11253" y="102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1.%20Folge%20Satzstreifen.doc" TargetMode="External"/><Relationship Id="rId3" Type="http://schemas.openxmlformats.org/officeDocument/2006/relationships/hyperlink" Target="file:///1.%20Folge%20Textstreifenr.doc" TargetMode="External"/><Relationship Id="rId4" Type="http://schemas.openxmlformats.org/officeDocument/2006/relationships/hyperlink" Target="file:///Gef&#252;hle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7FB4-C28C-4C7A-8A60-39551223C7A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61960" y="260280"/>
            <a:ext cx="825804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men de cuenta – acta, lib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ff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Film/Video im Unterr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ldkarten aufstellen – was löst das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 einfachere – sprachbezogene Aufgaben zur Verbesserung d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ör-Seh-Verste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enkonstellation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tatstreifen für zweites Sehen: zuordnen, Kom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xtstreifen: PA wie 6. moderne Umgangs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: Wortschatz und Charakterisierung: Eigenschaften, Gefü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karten – Situationen fin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762-2B40-4182-9241-AEF02E7EEA98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61960" y="260280"/>
            <a:ext cx="825804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men de cuenta – acta, lib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ff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Film/Video im Unterr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ldkarten aufstellen – was löst das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 einfachere – sprachbezogene Aufgaben zur Verbesserung d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ör-Seh-Verste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enkonstellation </a:t>
            </a:r>
            <a:r>
              <a:rPr b="0" lang="de-DE" sz="2400" spc="-1" strike="noStrike" u="sng">
                <a:solidFill>
                  <a:srgbClr val="0033cc"/>
                </a:solidFill>
                <a:uFillTx/>
                <a:latin typeface="Arial"/>
                <a:hlinkClick r:id="rId1" action="ppaction://hlinksldjump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Zitatstreif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zweites Sehen: zuordnen, Kom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Textstreif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PA wie 6. moderne Umgangs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: Wortschatz und Charakterisierung: Eigenschaften, </a:t>
            </a:r>
            <a:r>
              <a:rPr b="0" lang="de-DE" sz="2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Gefüh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karten – Situationen fin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r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8668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29040" y="2324160"/>
            <a:ext cx="3124080" cy="19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onenkonst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2895480"/>
            <a:ext cx="2736720" cy="12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tchwork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ider - Öztü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700000" y="1988640"/>
            <a:ext cx="93492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34136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utter D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56000" y="3500280"/>
            <a:ext cx="67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068640"/>
            <a:ext cx="2017800" cy="75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Tochter 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71280" y="4005360"/>
            <a:ext cx="86364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4160" y="458136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ohn N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48360" y="1944360"/>
            <a:ext cx="1152360" cy="9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149868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ater M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350028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6840" y="311148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ohn 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005360"/>
            <a:ext cx="100800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4551480"/>
            <a:ext cx="1873080" cy="89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Tochter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Yag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onenkonst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2895480"/>
            <a:ext cx="2736720" cy="12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tchwork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ider - Öztü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700000" y="1988640"/>
            <a:ext cx="93492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134136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Mutter D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556000" y="3500280"/>
            <a:ext cx="67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068640"/>
            <a:ext cx="2017800" cy="75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Tochter 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71280" y="4005360"/>
            <a:ext cx="86364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4160" y="458136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Sohn N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148360" y="1944360"/>
            <a:ext cx="1152360" cy="9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149868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ater M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350028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6840" y="3111480"/>
            <a:ext cx="1873440" cy="67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ohn 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005360"/>
            <a:ext cx="100800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4551480"/>
            <a:ext cx="1873080" cy="89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Tochter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Yag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7:53:04Z</dcterms:created>
  <dc:creator>Michael Seeger</dc:creator>
  <dc:description>Druck von Handzetteln problematisch</dc:description>
  <dc:language>en-US</dc:language>
  <cp:lastModifiedBy>Seeger</cp:lastModifiedBy>
  <dcterms:modified xsi:type="dcterms:W3CDTF">2008-11-20T08:31:52Z</dcterms:modified>
  <cp:revision>237</cp:revision>
  <dc:subject/>
  <dc:title>Methoden-kompakt</dc:title>
</cp:coreProperties>
</file>