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04680" y="74268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5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891E-87C5-4BD7-A99F-4ED46859798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86E3-F100-4EA8-AA51-B5ADEA84D9D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05040" y="74304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1791-D90C-4D60-AEC5-B92E9430910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CB6A-0AD4-4BB7-8DA5-74F4BA33E07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01E3-D99B-4610-9645-E3E28CC2043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3478-B4AF-4851-97B4-9D7494A242A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5C59-5434-40EB-AB0C-E62F0C2BB5F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B508-5D7A-4A45-9142-17E6718AD91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2557-3B19-4168-8622-E5D55352EBC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05040" y="74304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FCAE-41BC-47FC-8872-C4F4C27EA24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05040" y="74304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477C-1CA4-49D1-9160-5457CEE2696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9805-5BF2-4A9F-A7B2-18066BEEEC2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A58D-8BE2-460E-8B3A-D4880811B76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00E7-FBFE-4A76-921F-771FA29E563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46AD-1BEA-4DE3-8AB2-28C8A89DC5A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E578-64E9-4E3D-9A49-64795816019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michaelseeger.de/" TargetMode="External"/><Relationship Id="rId3" Type="http://schemas.openxmlformats.org/officeDocument/2006/relationships/slide" Target="slide2.xm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Rectangle 1030"/>
          <p:cNvSpPr/>
          <p:nvPr/>
        </p:nvSpPr>
        <p:spPr>
          <a:xfrm>
            <a:off x="6858000" y="6426360"/>
            <a:ext cx="22226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 algn="r"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fld id="{8837DBBE-9F0B-4221-841D-B6DB82A566AC}" type="slidenum">
              <a:rPr b="1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1031"/>
          <p:cNvSpPr/>
          <p:nvPr/>
        </p:nvSpPr>
        <p:spPr>
          <a:xfrm rot="16200000">
            <a:off x="-3276360" y="3276360"/>
            <a:ext cx="6858000" cy="304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0880" rIns="110880" tIns="55440" bIns="55440" anchor="ctr">
            <a:noAutofit/>
          </a:bodyPr>
          <a:p>
            <a:pPr algn="ctr"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© 2013-2 Michael Seeger SSDL-FR    </a:t>
            </a:r>
            <a:r>
              <a:rPr b="0" lang="de-DE" sz="1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www.michaelseeger.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1033" descr="D:\1 seminar\kurs2011-12\1. 2011-01-12\gruppe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361800" cy="2095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7667640" y="-100080"/>
            <a:ext cx="1476360" cy="614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moodle2.semgym.fr.schule-bw.de/moodle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lernkartei-zu%201.sitzung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Referendarstag%20am%2016.1._faust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kriterien_guter_unterricht.doc" TargetMode="External"/><Relationship Id="rId2" Type="http://schemas.openxmlformats.org/officeDocument/2006/relationships/hyperlink" Target="file:///UB%203%20interaktion.doc" TargetMode="External"/><Relationship Id="rId3" Type="http://schemas.openxmlformats.org/officeDocument/2006/relationships/hyperlink" Target="file:///Kriterien%20Besuche%201%20und%202.doc" TargetMode="External"/><Relationship Id="rId4" Type="http://schemas.openxmlformats.org/officeDocument/2006/relationships/hyperlink" Target="file:///U-Analyse-mitschrift.doc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2268360" y="152280"/>
            <a:ext cx="460872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99"/>
                </a:solidFill>
                <a:latin typeface="Verdana"/>
              </a:rPr>
              <a:t>Kurs 2013-14 Deutsch 6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066680" y="1155600"/>
            <a:ext cx="7010640" cy="27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Vorku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Verdana"/>
              </a:rPr>
              <a:t>Basiswissen 2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2. Sitzung am 15.01. 2013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6172200" y="5867280"/>
            <a:ext cx="2743200" cy="6098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ord-Skrip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7452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6. Sachanalyse (3)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ein (pragmatischer) Standpunk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33520" y="822240"/>
            <a:ext cx="7848360" cy="57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79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-27936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über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dem Text, der Sache, der gramm. Struktur, auch dem Schulbuch steh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-27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-27936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genaueste, mikroskopische Lektür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&gt;&gt; Textbeherrsch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-27936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-27936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ustausch mit KollegIn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-27936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-27936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Heranziehen von Sekundärliterat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-27936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-27936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ber </a:t>
            </a:r>
            <a:r>
              <a:rPr b="1" lang="de-DE" sz="2000" spc="-1" strike="noStrike">
                <a:solidFill>
                  <a:srgbClr val="ff0000"/>
                </a:solidFill>
                <a:latin typeface="Verdana"/>
              </a:rPr>
              <a:t>nicht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eine Sache / einen Inhalt an den Schülern „</a:t>
            </a:r>
            <a:r>
              <a:rPr b="1" lang="de-DE" sz="2000" spc="-1" strike="noStrike">
                <a:solidFill>
                  <a:srgbClr val="ff0000"/>
                </a:solidFill>
                <a:latin typeface="Verdana"/>
              </a:rPr>
              <a:t>exekutieren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“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-27936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-27936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ondern die </a:t>
            </a:r>
            <a:r>
              <a:rPr b="1" lang="de-DE" sz="2000" spc="-1" strike="noStrike">
                <a:solidFill>
                  <a:srgbClr val="ff0000"/>
                </a:solidFill>
                <a:latin typeface="Verdana"/>
              </a:rPr>
              <a:t>SuS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die ihnen erschließbaren thematischen Strukturen </a:t>
            </a:r>
            <a:r>
              <a:rPr b="1" lang="de-DE" sz="2000" spc="-1" strike="noStrike">
                <a:solidFill>
                  <a:srgbClr val="ff0000"/>
                </a:solidFill>
                <a:latin typeface="Verdana"/>
              </a:rPr>
              <a:t>erarbeiten la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-279360"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-279360"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Verdana"/>
              </a:rPr>
              <a:t>Altersangemessenhe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8960" y="74520"/>
            <a:ext cx="64767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808080"/>
                </a:solidFill>
                <a:latin typeface="Verdana"/>
              </a:rPr>
              <a:t>[7. Kurssprecherwahl </a:t>
            </a:r>
            <a:r>
              <a:rPr b="1" lang="en-US" sz="2300" spc="-1" strike="noStrike">
                <a:solidFill>
                  <a:srgbClr val="ff0000"/>
                </a:solidFill>
                <a:latin typeface="Verdana"/>
              </a:rPr>
              <a:t>??</a:t>
            </a:r>
            <a:r>
              <a:rPr b="1" lang="en-US" sz="2300" spc="-1" strike="noStrike">
                <a:solidFill>
                  <a:srgbClr val="808080"/>
                </a:solidFill>
                <a:latin typeface="Verdana"/>
              </a:rPr>
              <a:t>]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85800" y="822240"/>
            <a:ext cx="7848720" cy="56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m Seminar üblich </a:t>
            </a:r>
            <a:r>
              <a:rPr b="1" lang="de-DE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2 Kursspre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gagierte Person 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91960" indent="2797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ittl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91960" indent="2797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edi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91960" indent="2797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Katalys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91960" indent="2797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Koordin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zwischen Kurs und Dozent 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91960" indent="2797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Konfliktfä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91960" indent="2797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bei anonymisierter Kurs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91960" indent="2797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zum gerechten Ausgleich von Besuchsterminen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91960" indent="2797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91960" indent="2797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91960" indent="2797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74520"/>
            <a:ext cx="64767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9. Moodle-Lernplat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685800" y="685800"/>
            <a:ext cx="8001000" cy="56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Verdana"/>
                <a:ea typeface="Times New Roman"/>
                <a:hlinkClick r:id="rId1"/>
              </a:rPr>
              <a:t>https://moodle2.semgym.fr.schule-bw.de/moodle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lle dri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Kann ich den Kurs schließe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vtl. Hilfe / Dem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geschützter / geschlossener Raum (Urheberrecht, sensible Dat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ür 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91960" indent="2797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Nachrichtenforum: Diskussion, Austaus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91960" indent="2797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atenbank: Hochladen interessanter Dateien für all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z.B. Unterrichtsentwur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291960" indent="2797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ufgaben: Hochladen selbständiger Arbeit bei meiner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enstlichen Abwesenhe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Verdana"/>
              </a:rPr>
              <a:t>[10. Altersgemäßes Unterrichten]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5715000" y="1219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Grupp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762120" y="1143000"/>
            <a:ext cx="4800600" cy="6858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ufstellung nach Geburtsta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762120" y="2438280"/>
            <a:ext cx="73911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Verdana"/>
              </a:rPr>
              <a:t>Welche Gesichtspunkte soll die Lehrkraft berücksichtige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 1 Unterstuf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 2 Unterstuf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 3 Mittelstuf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 4 Oberstuf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Ergebnisse auf Foli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520" y="75960"/>
            <a:ext cx="57913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11. Feedbac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85800" y="1128600"/>
            <a:ext cx="7543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Verdana"/>
              </a:rPr>
              <a:t>Skala/Klebepunkt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ewertung der Mischung von Theorie und Praxis durch Platzieren eines Klebepunk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82760" y="3505320"/>
            <a:ext cx="8610480" cy="609480"/>
            <a:chOff x="482760" y="3505320"/>
            <a:chExt cx="8610480" cy="609480"/>
          </a:xfrm>
        </p:grpSpPr>
        <p:sp>
          <p:nvSpPr>
            <p:cNvPr id="100" name="AutoShape 4"/>
            <p:cNvSpPr/>
            <p:nvPr/>
          </p:nvSpPr>
          <p:spPr>
            <a:xfrm>
              <a:off x="482760" y="3505320"/>
              <a:ext cx="8610480" cy="609480"/>
            </a:xfrm>
            <a:prstGeom prst="leftRightArrow">
              <a:avLst>
                <a:gd name="adj1" fmla="val 50000"/>
                <a:gd name="adj2" fmla="val 281243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gute Mischun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Rectangle 5"/>
            <p:cNvSpPr/>
            <p:nvPr/>
          </p:nvSpPr>
          <p:spPr>
            <a:xfrm>
              <a:off x="1324440" y="3657600"/>
              <a:ext cx="1905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itte mehr Theorie!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Rectangle 6"/>
            <p:cNvSpPr/>
            <p:nvPr/>
          </p:nvSpPr>
          <p:spPr>
            <a:xfrm>
              <a:off x="6733440" y="3657600"/>
              <a:ext cx="177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itte mehr Praxis!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440" y="75960"/>
            <a:ext cx="57913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12. Weitere Planung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755640" y="907920"/>
            <a:ext cx="7543800" cy="36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3. VK-Sitzung: Ganztag an der Schu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Mittwoch, 16.01. 2013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 07:40 – 17: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aust-Gymnasium Staufen  &gt;&gt;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ahrgemeinschaf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ttps://maps.google.de/maps?hl=de&amp;q=Faust-Gymnasium+Staufen&amp;ie=UTF-8&amp;ei=05HfTuLFEMaB4ATv7uDkBg&amp;oi=mode_link&amp;cd=3&amp;ved=0CA8Q_AUo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95280" y="189000"/>
            <a:ext cx="46782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Gliederung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instie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iederholen 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 u="sng">
                <a:solidFill>
                  <a:srgbClr val="0000ff"/>
                </a:solidFill>
                <a:uFillTx/>
                <a:latin typeface="Verdana"/>
                <a:hlinkClick r:id="rId1" action="ppaction://hlinksldjump"/>
              </a:rPr>
              <a:t>&gt;&gt;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röffnen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 u="sng">
                <a:solidFill>
                  <a:srgbClr val="0000ff"/>
                </a:solidFill>
                <a:uFillTx/>
                <a:latin typeface="Verdana"/>
                <a:hlinkClick r:id="rId2" action="ppaction://hlinksldjump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Organisation Ganztag am Faust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 u="sng">
                <a:solidFill>
                  <a:srgbClr val="0000ff"/>
                </a:solidFill>
                <a:uFillTx/>
                <a:latin typeface="Verdana"/>
                <a:hlinkClick r:id="rId3" action="ppaction://hlinksldjump"/>
              </a:rPr>
              <a:t>&gt;&gt;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terrichtsbeobachtung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Kriterien guten Unterrich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Verdana"/>
              <a:buAutoNum type="arabicPeriod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Sachanalyse (vorbereitet)</a:t>
            </a: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de-DE" sz="2000" spc="-1" strike="noStrike" u="sng">
                <a:solidFill>
                  <a:srgbClr val="0000ff"/>
                </a:solidFill>
                <a:uFillTx/>
                <a:latin typeface="Verdana"/>
                <a:hlinkClick r:id="rId4" action="ppaction://hlinksldjump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Kompetenzorientierung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Verdana"/>
              <a:buAutoNum type="arabicPeriod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Kurssprecherwahl??</a:t>
            </a: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oodle – Lernplattform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AutoNum type="arabicPeriod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08080"/>
                </a:solidFill>
                <a:latin typeface="Verdana"/>
              </a:rPr>
              <a:t>[Altersgemäßes Unterrichten] Puffer</a:t>
            </a:r>
            <a:r>
              <a:rPr b="0" lang="de-DE" sz="20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808080"/>
                </a:solidFill>
                <a:latin typeface="Verdana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Feedback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eitere Planung  &gt;&gt; 16.1.  10 Std. am Faust-Gymnasium Staufen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120" y="74520"/>
            <a:ext cx="342900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1. Stummer Impu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4419720" y="1828800"/>
            <a:ext cx="4371840" cy="3517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762120" y="1828800"/>
            <a:ext cx="3179520" cy="3581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762120" y="562464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uS stehen im Mittelpunk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Verdana"/>
              </a:rPr>
              <a:t>&gt;&gt; Schülerzentrier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0" name="Object 8"/>
          <p:cNvGraphicFramePr/>
          <p:nvPr/>
        </p:nvGraphicFramePr>
        <p:xfrm>
          <a:off x="1886040" y="685800"/>
          <a:ext cx="108576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86040" y="685800"/>
                    <a:ext cx="10857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5640" y="74520"/>
            <a:ext cx="4800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2. Wiederholen und Festige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762120" y="1143000"/>
            <a:ext cx="3809880" cy="8380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Paare-Passante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AutoShape 6">
            <a:hlinkClick r:id="rId1"/>
          </p:cNvPr>
          <p:cNvSpPr/>
          <p:nvPr/>
        </p:nvSpPr>
        <p:spPr>
          <a:xfrm>
            <a:off x="4572000" y="2514600"/>
            <a:ext cx="3809880" cy="8380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artenabfrag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324160" y="3733920"/>
            <a:ext cx="4191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3. Beginnen / Eröffne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762120" y="4724280"/>
            <a:ext cx="4025880" cy="151308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Anfangsphase USt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ff"/>
                </a:solidFill>
                <a:latin typeface="Verdana"/>
              </a:rPr>
              <a:t>Skript Pä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7452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4. Organisation Ganztag am Faus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981000"/>
            <a:ext cx="8064360" cy="53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Fahrgemeinschaf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ÖPNV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(Regiokarte, Punktekarte, Einzelfahrschei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R Hbf Gleis 4 um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7:10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nach Bad Krozi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ort rechts der Gleise (westl.) Bus mit Aufschrift „Schulbus“ bis Faust-Gym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rogramm </a:t>
            </a:r>
            <a:r>
              <a:rPr b="0" lang="de-DE" sz="24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&gt;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itte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feste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Schreibunterlage; Sie müssen evtl. steh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920" y="260280"/>
            <a:ext cx="6408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000000"/>
                </a:solidFill>
                <a:latin typeface="Verdana"/>
              </a:rPr>
              <a:t>5. Güte-Kriterien guten Unterrichts</a:t>
            </a:r>
            <a:br>
              <a:rPr sz="23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ls Grundlage für die U.-Beobacht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1413000"/>
            <a:ext cx="806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ch H. Meyer / diesem Kurs / Vorgängerkurse / See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042920" y="2349360"/>
            <a:ext cx="5801760" cy="777960"/>
            <a:chOff x="1042920" y="2349360"/>
            <a:chExt cx="5801760" cy="777960"/>
          </a:xfrm>
        </p:grpSpPr>
        <p:sp>
          <p:nvSpPr>
            <p:cNvPr id="72" name="AutoShape 6"/>
            <p:cNvSpPr/>
            <p:nvPr/>
          </p:nvSpPr>
          <p:spPr>
            <a:xfrm>
              <a:off x="1042920" y="2349360"/>
              <a:ext cx="3025800" cy="777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200" spc="-1" strike="noStrike">
                  <a:solidFill>
                    <a:srgbClr val="000000"/>
                  </a:solidFill>
                  <a:latin typeface="Verdana"/>
                </a:rPr>
                <a:t>MindMap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175280" y="2543040"/>
              <a:ext cx="26694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n Tandems füllen </a:t>
              </a:r>
              <a:r>
                <a:rPr b="0" lang="en-US" sz="2000" spc="-1" strike="noStrike" u="sng">
                  <a:solidFill>
                    <a:srgbClr val="0000ff"/>
                  </a:solidFill>
                  <a:uFillTx/>
                  <a:latin typeface="Verdana"/>
                  <a:hlinkClick r:id="rId1"/>
                </a:rPr>
                <a:t>&gt;&gt;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684360" y="3654360"/>
            <a:ext cx="8064360" cy="22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eobachtungsböge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ür UB am Faust z.B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&gt;&gt;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e TN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3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tokollbögen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Unterl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.-Kompetenzen, die beim 1. und 2. UB erreicht sind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Verdana"/>
                <a:hlinkClick r:id="rId3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in Unterrichtsanalyse-Bogen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Verdana"/>
                <a:hlinkClick r:id="rId4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7452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6. Sachanaly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762120" y="907920"/>
            <a:ext cx="3809880" cy="8384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ssenmethod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762120" y="2227320"/>
            <a:ext cx="784836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it welchem Verfahren im Sinne der </a:t>
            </a:r>
            <a:r>
              <a:rPr b="1" lang="de-DE" sz="1800" spc="-1" strike="noStrike">
                <a:solidFill>
                  <a:srgbClr val="ff0000"/>
                </a:solidFill>
                <a:latin typeface="Verdana"/>
              </a:rPr>
              <a:t>Massenmethode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können wir Ihre Ausarbeitungen zur Sachanalyse organisieren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urchführung eines Vorschla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napper Austausch im Plenu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- Hacks-Text: didaktischer Ort? Klass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8960" y="74520"/>
            <a:ext cx="64767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6. Kompetenzorientierung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685800" y="822240"/>
            <a:ext cx="784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Zum Erwerb der Standards Kl. 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st der Text von Peter Hacks „Der Bär auf dem Försterball“ geeign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762120" y="1282680"/>
            <a:ext cx="7848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231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31f20"/>
                </a:solidFill>
                <a:latin typeface="Arial"/>
                <a:ea typeface="GaramontAmstSB-Roman"/>
              </a:rPr>
              <a:t>Personen, auch literarische Figuren, charakterisier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600" spc="-1" strike="noStrike">
                <a:solidFill>
                  <a:srgbClr val="231f20"/>
                </a:solidFill>
                <a:latin typeface="Arial"/>
                <a:ea typeface="GaramontAmstSB-Roman"/>
              </a:rPr>
              <a:t>Inhalt und Aussage eines Textes erfass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buClr>
                <a:srgbClr val="231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231f20"/>
                </a:solidFill>
                <a:latin typeface="Arial"/>
                <a:ea typeface="GaramontAmstSB-Roman"/>
              </a:rPr>
              <a:t>Die SuS  erkennen Grundmuster von Verhalten und Erfahrung und setzen sich mit den dabei aufgeworfenen Problemen und Wertvorstellungen auseinand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762120" y="3187800"/>
            <a:ext cx="8001000" cy="344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Wir simulieren eine Unterrichtssituation mit einer 8. Klas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1 TN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(wer???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in der Lehrerrolle improvisiert ei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Verdana"/>
                <a:ea typeface="Times New Roman"/>
              </a:rPr>
              <a:t>fragend – entwickelndes – Unterrichtsgesprä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e TN beobach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63640" indent="-2919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rage- /Impulstechni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63640" indent="-2919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olle/Dominanz/Redeanteil des Lehr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63640" indent="-2919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Zielstrebigkeit der Gesprächsführ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8960" y="74520"/>
            <a:ext cx="64767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6. Sachanalyse (2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590920" y="71604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wiss. Kontrover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457200" y="1295280"/>
            <a:ext cx="4114800" cy="2507760"/>
          </a:xfrm>
          <a:prstGeom prst="rect">
            <a:avLst/>
          </a:prstGeom>
          <a:solidFill>
            <a:srgbClr val="ff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Klafki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t 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8088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Überforderung (qualitativ und zeitlich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8088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gehört in Lehreraus- und Fortbildu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8088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Es gibt für L. keine „vorpädagogische“ wissensch. Sachlichkei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8088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issverhältnis fachwiss. Theori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&lt; - &gt; unterrichtsprakt. Nutz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80880" indent="-1904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4800600" y="1295280"/>
            <a:ext cx="3962520" cy="2396520"/>
          </a:xfrm>
          <a:prstGeom prst="rect">
            <a:avLst/>
          </a:prstGeom>
          <a:solidFill>
            <a:srgbClr val="bf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Helmers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t 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8088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Dreischritt: sprachliche-didaktische-methodische Analy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8088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Kein Schritt darf fehlen; diese Reihenfolge darf man nicht umdreh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8088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ohne Sachanalyse kann man den Text verfehl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80880" indent="-190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Verdana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fällt man in Routin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1981080" y="4114800"/>
            <a:ext cx="48006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hr Standpunkt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gt;&gt; 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Bienenkor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6:09:24Z</dcterms:created>
  <dc:creator>Michael Seeger</dc:creator>
  <dc:description/>
  <dc:language>en-US</dc:language>
  <cp:lastModifiedBy>Seeger</cp:lastModifiedBy>
  <dcterms:modified xsi:type="dcterms:W3CDTF">2013-01-14T20:37:31Z</dcterms:modified>
  <cp:revision>38</cp:revision>
  <dc:subject/>
  <dc:title>PowerPoint-Präsentation</dc:title>
</cp:coreProperties>
</file>